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8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png" ContentType="image/png"/>
  <Override PartName="/ppt/media/image6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  <p:sldId id="279" r:id="rId35"/>
    <p:sldId id="280" r:id="rId36"/>
    <p:sldId id="281" r:id="rId37"/>
    <p:sldId id="282" r:id="rId38"/>
    <p:sldId id="283" r:id="rId39"/>
    <p:sldId id="284" r:id="rId40"/>
    <p:sldId id="285" r:id="rId41"/>
    <p:sldId id="286" r:id="rId42"/>
    <p:sldId id="287" r:id="rId43"/>
    <p:sldId id="288" r:id="rId44"/>
    <p:sldId id="289" r:id="rId45"/>
    <p:sldId id="290" r:id="rId46"/>
    <p:sldId id="291" r:id="rId47"/>
    <p:sldId id="292" r:id="rId48"/>
    <p:sldId id="293" r:id="rId49"/>
    <p:sldId id="294" r:id="rId50"/>
    <p:sldId id="295" r:id="rId51"/>
    <p:sldId id="296" r:id="rId52"/>
    <p:sldId id="297" r:id="rId53"/>
    <p:sldId id="298" r:id="rId54"/>
    <p:sldId id="299" r:id="rId55"/>
    <p:sldId id="300" r:id="rId56"/>
    <p:sldId id="301" r:id="rId57"/>
    <p:sldId id="302" r:id="rId58"/>
    <p:sldId id="303" r:id="rId59"/>
    <p:sldId id="304" r:id="rId60"/>
    <p:sldId id="305" r:id="rId61"/>
    <p:sldId id="306" r:id="rId62"/>
    <p:sldId id="307" r:id="rId63"/>
    <p:sldId id="308" r:id="rId64"/>
    <p:sldId id="309" r:id="rId65"/>
    <p:sldId id="310" r:id="rId66"/>
    <p:sldId id="311" r:id="rId67"/>
    <p:sldId id="312" r:id="rId68"/>
    <p:sldId id="313" r:id="rId69"/>
    <p:sldId id="314" r:id="rId70"/>
    <p:sldId id="315" r:id="rId71"/>
    <p:sldId id="316" r:id="rId72"/>
    <p:sldId id="317" r:id="rId73"/>
    <p:sldId id="318" r:id="rId74"/>
    <p:sldId id="319" r:id="rId75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slide" Target="slides/slide24.xml"/><Relationship Id="rId36" Type="http://schemas.openxmlformats.org/officeDocument/2006/relationships/slide" Target="slides/slide25.xml"/><Relationship Id="rId37" Type="http://schemas.openxmlformats.org/officeDocument/2006/relationships/slide" Target="slides/slide26.xml"/><Relationship Id="rId38" Type="http://schemas.openxmlformats.org/officeDocument/2006/relationships/slide" Target="slides/slide27.xml"/><Relationship Id="rId39" Type="http://schemas.openxmlformats.org/officeDocument/2006/relationships/slide" Target="slides/slide28.xml"/><Relationship Id="rId40" Type="http://schemas.openxmlformats.org/officeDocument/2006/relationships/slide" Target="slides/slide29.xml"/><Relationship Id="rId41" Type="http://schemas.openxmlformats.org/officeDocument/2006/relationships/slide" Target="slides/slide30.xml"/><Relationship Id="rId42" Type="http://schemas.openxmlformats.org/officeDocument/2006/relationships/slide" Target="slides/slide31.xml"/><Relationship Id="rId43" Type="http://schemas.openxmlformats.org/officeDocument/2006/relationships/slide" Target="slides/slide32.xml"/><Relationship Id="rId44" Type="http://schemas.openxmlformats.org/officeDocument/2006/relationships/slide" Target="slides/slide33.xml"/><Relationship Id="rId45" Type="http://schemas.openxmlformats.org/officeDocument/2006/relationships/slide" Target="slides/slide34.xml"/><Relationship Id="rId46" Type="http://schemas.openxmlformats.org/officeDocument/2006/relationships/slide" Target="slides/slide35.xml"/><Relationship Id="rId47" Type="http://schemas.openxmlformats.org/officeDocument/2006/relationships/slide" Target="slides/slide36.xml"/><Relationship Id="rId48" Type="http://schemas.openxmlformats.org/officeDocument/2006/relationships/slide" Target="slides/slide37.xml"/><Relationship Id="rId49" Type="http://schemas.openxmlformats.org/officeDocument/2006/relationships/slide" Target="slides/slide38.xml"/><Relationship Id="rId50" Type="http://schemas.openxmlformats.org/officeDocument/2006/relationships/slide" Target="slides/slide39.xml"/><Relationship Id="rId51" Type="http://schemas.openxmlformats.org/officeDocument/2006/relationships/slide" Target="slides/slide40.xml"/><Relationship Id="rId52" Type="http://schemas.openxmlformats.org/officeDocument/2006/relationships/slide" Target="slides/slide41.xml"/><Relationship Id="rId53" Type="http://schemas.openxmlformats.org/officeDocument/2006/relationships/slide" Target="slides/slide42.xml"/><Relationship Id="rId54" Type="http://schemas.openxmlformats.org/officeDocument/2006/relationships/slide" Target="slides/slide43.xml"/><Relationship Id="rId55" Type="http://schemas.openxmlformats.org/officeDocument/2006/relationships/slide" Target="slides/slide44.xml"/><Relationship Id="rId56" Type="http://schemas.openxmlformats.org/officeDocument/2006/relationships/slide" Target="slides/slide45.xml"/><Relationship Id="rId57" Type="http://schemas.openxmlformats.org/officeDocument/2006/relationships/slide" Target="slides/slide46.xml"/><Relationship Id="rId58" Type="http://schemas.openxmlformats.org/officeDocument/2006/relationships/slide" Target="slides/slide47.xml"/><Relationship Id="rId59" Type="http://schemas.openxmlformats.org/officeDocument/2006/relationships/slide" Target="slides/slide48.xml"/><Relationship Id="rId60" Type="http://schemas.openxmlformats.org/officeDocument/2006/relationships/slide" Target="slides/slide49.xml"/><Relationship Id="rId61" Type="http://schemas.openxmlformats.org/officeDocument/2006/relationships/slide" Target="slides/slide50.xml"/><Relationship Id="rId62" Type="http://schemas.openxmlformats.org/officeDocument/2006/relationships/slide" Target="slides/slide51.xml"/><Relationship Id="rId63" Type="http://schemas.openxmlformats.org/officeDocument/2006/relationships/slide" Target="slides/slide52.xml"/><Relationship Id="rId64" Type="http://schemas.openxmlformats.org/officeDocument/2006/relationships/slide" Target="slides/slide53.xml"/><Relationship Id="rId65" Type="http://schemas.openxmlformats.org/officeDocument/2006/relationships/slide" Target="slides/slide54.xml"/><Relationship Id="rId66" Type="http://schemas.openxmlformats.org/officeDocument/2006/relationships/slide" Target="slides/slide55.xml"/><Relationship Id="rId67" Type="http://schemas.openxmlformats.org/officeDocument/2006/relationships/slide" Target="slides/slide56.xml"/><Relationship Id="rId68" Type="http://schemas.openxmlformats.org/officeDocument/2006/relationships/slide" Target="slides/slide57.xml"/><Relationship Id="rId69" Type="http://schemas.openxmlformats.org/officeDocument/2006/relationships/slide" Target="slides/slide58.xml"/><Relationship Id="rId70" Type="http://schemas.openxmlformats.org/officeDocument/2006/relationships/slide" Target="slides/slide59.xml"/><Relationship Id="rId71" Type="http://schemas.openxmlformats.org/officeDocument/2006/relationships/slide" Target="slides/slide60.xml"/><Relationship Id="rId72" Type="http://schemas.openxmlformats.org/officeDocument/2006/relationships/slide" Target="slides/slide61.xml"/><Relationship Id="rId73" Type="http://schemas.openxmlformats.org/officeDocument/2006/relationships/slide" Target="slides/slide62.xml"/><Relationship Id="rId74" Type="http://schemas.openxmlformats.org/officeDocument/2006/relationships/slide" Target="slides/slide63.xml"/><Relationship Id="rId75" Type="http://schemas.openxmlformats.org/officeDocument/2006/relationships/slide" Target="slides/slide64.xml"/><Relationship Id="rId7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Click to move the slide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2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Gill 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BB7DB-94FA-4969-AC93-B7EAF5ACEF01}" type="slidenum">
              <a:rPr b="0" lang="de-DE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AE3F4-78C2-4F71-A270-17B3BC46A43F}" type="slidenum">
              <a:rPr b="0" lang="de-DE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8400" indent="0">
              <a:lnSpc>
                <a:spcPct val="100000"/>
              </a:lnSpc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rschiedene Ansichten von Ontologie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marL="68400" indent="0">
              <a:lnSpc>
                <a:spcPct val="100000"/>
              </a:lnSpc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tzter Punkt: Kategorien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marL="68400" indent="0">
              <a:lnSpc>
                <a:spcPct val="100000"/>
              </a:lnSpc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r ist für uns vor allem interessant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44F37-5857-4833-9375-DA9C74D7A148}" type="slidenum">
              <a:rPr b="0" lang="de-DE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8400" indent="0">
              <a:lnSpc>
                <a:spcPct val="100000"/>
              </a:lnSpc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ght-weight ontology model. Basically knows classes and properties . Partial order on inheritance so we can express equivalence by cyclic inheritance hierarchy. Pretty much OO like, so to say.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marL="68400" indent="0">
              <a:lnSpc>
                <a:spcPct val="100000"/>
              </a:lnSpc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marL="68400" indent="0">
              <a:lnSpc>
                <a:spcPct val="100000"/>
              </a:lnSpc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dicative schema. So edges may be there that have never been declared as a property, also edges that have been declared might not be used for some object. We don‘t have to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marL="68400" indent="0">
              <a:lnSpc>
                <a:spcPct val="100000"/>
              </a:lnSpc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l Nulls.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marL="68400" indent="0">
              <a:lnSpc>
                <a:spcPct val="100000"/>
              </a:lnSpc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marL="68400" indent="0">
              <a:lnSpc>
                <a:spcPct val="100000"/>
              </a:lnSpc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asses are defined on their own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marL="68400" indent="0">
              <a:lnSpc>
                <a:spcPct val="100000"/>
              </a:lnSpc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we consider storage we can have unary predicates for classes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marL="68400" indent="0">
              <a:lnSpc>
                <a:spcPct val="100000"/>
              </a:lnSpc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ass(x:Employee) and unary predicates for class membership 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marL="68400" indent="0">
              <a:lnSpc>
                <a:spcPct val="100000"/>
              </a:lnSpc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.e., which of course leads to duplicates x:Employee(x:Raphael)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marL="68400" indent="0">
              <a:lnSpc>
                <a:spcPct val="100000"/>
              </a:lnSpc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marL="68400" indent="0">
              <a:lnSpc>
                <a:spcPct val="100000"/>
              </a:lnSpc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erties are attributes and associations to speak in OO.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marL="68400" indent="0">
              <a:lnSpc>
                <a:spcPct val="100000"/>
              </a:lnSpc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y don‘t belong to the class, instead they are first class entities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marL="68400" indent="0">
              <a:lnSpc>
                <a:spcPct val="100000"/>
              </a:lnSpc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erties possibly have (mulitple) domains and ranges, thus a property can validly be applied to any member of a class in it‘s domain and can point to any member of a class in it‘s range.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554C1B-AE8E-46B9-94A8-78AB7B3F2A9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0F03BD-58F6-43FA-B22A-C32394AF12F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084CDF-E71E-4ED0-B3ED-6FBB7E99D4D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D22DE7-26C8-499A-A87B-D87A34B0757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57263B-21BC-4E78-AE96-3652695ADBB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5F0473-33BA-44E5-818F-AD2441F8730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C5B0CB-2403-47CB-8D30-FC5BC9358EB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DDD917-6339-4C91-AED9-C192D36B9F8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0ADD10-45AB-43EF-AA20-BEDF2875716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74BBA7-7771-4435-9414-DF710078768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C4C9AD-1B42-45F7-B9D7-30EC0896F88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1B2334-FBD1-41CA-AA79-34348AB66B5C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8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6000"/>
          </a:bodyPr>
          <a:p>
            <a:pPr marL="889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1" marL="88920" indent="-889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2" marL="88920" indent="-88920" algn="ctr">
              <a:buClr>
                <a:srgbClr val="000000"/>
              </a:buClr>
              <a:buFont typeface="Bodoni SvtyTwo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3" marL="88920" indent="-889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4" marL="88920" indent="-889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5" marL="88920" indent="-889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6" marL="88920" indent="-889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pic>
        <p:nvPicPr>
          <p:cNvPr id="2" name="Picture 3" descr=""/>
          <p:cNvPicPr/>
          <p:nvPr/>
        </p:nvPicPr>
        <p:blipFill>
          <a:blip r:embed="rId2"/>
          <a:stretch/>
        </p:blipFill>
        <p:spPr>
          <a:xfrm>
            <a:off x="5778360" y="0"/>
            <a:ext cx="1447920" cy="12351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4" descr=""/>
          <p:cNvPicPr/>
          <p:nvPr/>
        </p:nvPicPr>
        <p:blipFill>
          <a:blip r:embed="rId3"/>
          <a:srcRect l="96523" t="0" r="0" b="296"/>
          <a:stretch/>
        </p:blipFill>
        <p:spPr>
          <a:xfrm>
            <a:off x="7226280" y="0"/>
            <a:ext cx="5778360" cy="1231920"/>
          </a:xfrm>
          <a:prstGeom prst="rect">
            <a:avLst/>
          </a:prstGeom>
          <a:ln w="0">
            <a:noFill/>
          </a:ln>
        </p:spPr>
      </p:pic>
      <p:pic>
        <p:nvPicPr>
          <p:cNvPr id="4" name="Picture 5" descr=""/>
          <p:cNvPicPr/>
          <p:nvPr/>
        </p:nvPicPr>
        <p:blipFill>
          <a:blip r:embed="rId4"/>
          <a:srcRect l="0" t="0" r="95417" b="0"/>
          <a:stretch/>
        </p:blipFill>
        <p:spPr>
          <a:xfrm>
            <a:off x="-3240" y="1440"/>
            <a:ext cx="5794560" cy="1231920"/>
          </a:xfrm>
          <a:prstGeom prst="rect">
            <a:avLst/>
          </a:prstGeom>
          <a:ln w="0">
            <a:noFill/>
          </a:ln>
        </p:spPr>
      </p:pic>
      <p:pic>
        <p:nvPicPr>
          <p:cNvPr id="5" name="Picture 6" descr=""/>
          <p:cNvPicPr/>
          <p:nvPr/>
        </p:nvPicPr>
        <p:blipFill>
          <a:blip r:embed="rId5"/>
          <a:stretch/>
        </p:blipFill>
        <p:spPr>
          <a:xfrm>
            <a:off x="12476160" y="7656480"/>
            <a:ext cx="457200" cy="2019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3808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28268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2" marL="1727280" indent="-571680">
              <a:spcBef>
                <a:spcPts val="2401"/>
              </a:spcBef>
              <a:buClr>
                <a:srgbClr val="000000"/>
              </a:buClr>
              <a:buSzPct val="69000"/>
              <a:buFont typeface="Helvetica Neue"/>
              <a:buChar char="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3" marL="2171880" indent="-571680">
              <a:spcBef>
                <a:spcPts val="2401"/>
              </a:spcBef>
              <a:buClr>
                <a:srgbClr val="000000"/>
              </a:buClr>
              <a:buFont typeface="Helvetica Neu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4" marL="2527200" indent="-2527200">
              <a:spcBef>
                <a:spcPts val="2401"/>
              </a:spcBef>
              <a:buClr>
                <a:srgbClr val="000000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5" marL="2527200" indent="-2527200">
              <a:spcBef>
                <a:spcPts val="2401"/>
              </a:spcBef>
              <a:buClr>
                <a:srgbClr val="000000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6" marL="2527200" indent="-2527200">
              <a:spcBef>
                <a:spcPts val="2401"/>
              </a:spcBef>
              <a:buClr>
                <a:srgbClr val="000000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-12600" y="1752480"/>
            <a:ext cx="11849040" cy="63720"/>
          </a:xfrm>
          <a:prstGeom prst="rect">
            <a:avLst/>
          </a:prstGeom>
          <a:gradFill rotWithShape="0">
            <a:gsLst>
              <a:gs pos="0">
                <a:srgbClr val="fbffff"/>
              </a:gs>
              <a:gs pos="100000">
                <a:srgbClr val="f2001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5" name="Picture 4" descr=""/>
          <p:cNvPicPr/>
          <p:nvPr/>
        </p:nvPicPr>
        <p:blipFill>
          <a:blip r:embed="rId2"/>
          <a:stretch/>
        </p:blipFill>
        <p:spPr>
          <a:xfrm rot="5400000">
            <a:off x="542880" y="1393560"/>
            <a:ext cx="355320" cy="12067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5" descr=""/>
          <p:cNvPicPr/>
          <p:nvPr/>
        </p:nvPicPr>
        <p:blipFill>
          <a:blip r:embed="rId3"/>
          <a:stretch/>
        </p:blipFill>
        <p:spPr>
          <a:xfrm>
            <a:off x="0" y="546120"/>
            <a:ext cx="1447920" cy="12351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" descr=""/>
          <p:cNvPicPr/>
          <p:nvPr/>
        </p:nvPicPr>
        <p:blipFill>
          <a:blip r:embed="rId4"/>
          <a:srcRect l="0" t="0" r="0" b="89741"/>
          <a:stretch/>
        </p:blipFill>
        <p:spPr>
          <a:xfrm>
            <a:off x="0" y="-63360"/>
            <a:ext cx="1447920" cy="60948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3"/>
          <p:cNvSpPr>
            <a:spLocks noGrp="1"/>
          </p:cNvSpPr>
          <p:nvPr>
            <p:ph type="sldNum" idx="1"/>
          </p:nvPr>
        </p:nvSpPr>
        <p:spPr>
          <a:xfrm>
            <a:off x="12712320" y="9423000"/>
            <a:ext cx="3430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Gill San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56771-E8FA-495C-AF69-CD2DB3B1112B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635040" y="478800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marL="2743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1" marL="274320" indent="-2743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2" marL="274320" indent="-274320" algn="ctr">
              <a:buClr>
                <a:srgbClr val="000000"/>
              </a:buClr>
              <a:buFont typeface="Bodoni SvtyTwo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3" marL="274320" indent="-2743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4" marL="274320" indent="-2743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5" marL="274320" indent="-2743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6" marL="274320" indent="-2743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70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635040" y="478800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marL="2743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1" marL="274320" indent="-2743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2" marL="274320" indent="-274320" algn="ctr">
              <a:buClr>
                <a:srgbClr val="000000"/>
              </a:buClr>
              <a:buFont typeface="Bodoni SvtyTwo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3" marL="274320" indent="-2743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4" marL="274320" indent="-2743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5" marL="274320" indent="-2743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6" marL="274320" indent="-2743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70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585360" indent="-37980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  <a:p>
            <a:pPr lvl="1" marL="927720" indent="-37980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  <a:p>
            <a:pPr lvl="2" marL="1270080" indent="-38016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  <a:p>
            <a:pPr lvl="3" marL="1612080" indent="-37980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  <a:p>
            <a:pPr lvl="4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  <a:p>
            <a:pPr lvl="5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  <a:p>
            <a:pPr lvl="6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hyperlink" Target="http://www.semantic-web-grundlagen.de/index.php/Kapitel_2" TargetMode="External"/><Relationship Id="rId4" Type="http://schemas.openxmlformats.org/officeDocument/2006/relationships/hyperlink" Target="http://www.semantic-web-grundlagen.de/" TargetMode="External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image" Target="../media/image6.jpeg"/><Relationship Id="rId6" Type="http://schemas.openxmlformats.org/officeDocument/2006/relationships/image" Target="../media/image6.jpeg"/><Relationship Id="rId7" Type="http://schemas.openxmlformats.org/officeDocument/2006/relationships/image" Target="../media/image6.jpeg"/><Relationship Id="rId8" Type="http://schemas.openxmlformats.org/officeDocument/2006/relationships/image" Target="../media/image6.jpeg"/><Relationship Id="rId9" Type="http://schemas.openxmlformats.org/officeDocument/2006/relationships/image" Target="../media/image6.jpeg"/><Relationship Id="rId10" Type="http://schemas.openxmlformats.org/officeDocument/2006/relationships/image" Target="../media/image6.jpe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1"/>
          <p:cNvSpPr/>
          <p:nvPr/>
        </p:nvSpPr>
        <p:spPr>
          <a:xfrm>
            <a:off x="127008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  <a:ea typeface="Bodoni SvtyTwo SC ITC TT-Book"/>
              </a:rPr>
              <a:t>Semantic Web Technologies I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4" name="Rectangle 2"/>
          <p:cNvSpPr/>
          <p:nvPr/>
        </p:nvSpPr>
        <p:spPr>
          <a:xfrm>
            <a:off x="1270080" y="4940280"/>
            <a:ext cx="10464840" cy="33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  <a:ea typeface="Bodoni SvtyTwo ITC TT-Book"/>
              </a:rPr>
              <a:t>Lehrveranstaltung im WS09/10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  <a:ea typeface="Bodoni SvtyTwo ITC TT-Book"/>
              </a:rPr>
              <a:t>M.Sc. Markus Krötzsch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  <a:ea typeface="Bodoni SvtyTwo ITC TT-Book"/>
              </a:rPr>
              <a:t>Dr. Sebastian Rudolph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355" name="Picture 7" descr=""/>
          <p:cNvPicPr/>
          <p:nvPr/>
        </p:nvPicPr>
        <p:blipFill>
          <a:blip r:embed="rId1"/>
          <a:stretch/>
        </p:blipFill>
        <p:spPr>
          <a:xfrm>
            <a:off x="0" y="12600"/>
            <a:ext cx="13004640" cy="9753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B9E0B-B4F4-4D61-A412-39F572BEF64A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otiv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cc0006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6"/>
                </a:solidFill>
                <a:latin typeface="Helvetica Neue"/>
              </a:rPr>
              <a:t>OWL - Allgemeine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lassen, Rollen und Individu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lassenbeziehung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omplexe Klass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Eigenschaften von Roll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WL Varian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Anfragen an OWL-Ontolog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0D935-3E4D-4D3A-9987-864A2966E505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/>
          </p:nvPr>
        </p:nvSpPr>
        <p:spPr>
          <a:xfrm>
            <a:off x="355680" y="2514240"/>
            <a:ext cx="12344400" cy="712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W3C Recommendation seit 2004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Semantisches Fragment von FOL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Drei Variante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OWL Lite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</a:rPr>
              <a:t>µ</a:t>
            </a: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 OWL DL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</a:rPr>
              <a:t>µ</a:t>
            </a: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 OWL Full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Keine Reifikation in OWL DL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➔ RDFS ist Fragment von OWL Full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OWL DL ist entscheidbar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entspricht der Beschreibungslogik </a:t>
            </a:r>
            <a:r>
              <a:rPr b="0" lang="en-US" sz="3400" spc="-1" strike="noStrike">
                <a:solidFill>
                  <a:srgbClr val="000000"/>
                </a:solidFill>
                <a:latin typeface="cmbsy10"/>
              </a:rPr>
              <a:t>SHOIN</a:t>
            </a: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(D) 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W3C-Dokumente (Vorlesungswebseite) enthalten Details, die hier nicht alle angesprochen werden können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90" name="Rectangle 2"/>
          <p:cNvSpPr/>
          <p:nvPr/>
        </p:nvSpPr>
        <p:spPr>
          <a:xfrm>
            <a:off x="1486080" y="304920"/>
            <a:ext cx="1104876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OWL - Allgemeines</a:t>
            </a: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>
    <p:cover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566C1-98AB-4A68-A469-BF4AE47A441F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473120" y="444600"/>
            <a:ext cx="11049120" cy="13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OWL Variant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977760" y="2007720"/>
            <a:ext cx="11049120" cy="7745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lnSpc>
                <a:spcPct val="8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OWL Ful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Enthält OWL DL und OWL Lite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Enthält als einzige OWL-Teilsprache ganz RDFS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Semantik enthält einige Aspekte, die aus logischem Blickwinkel problematisch sind.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Unentscheidbar.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Wird durch aktuelle Softwarewerkzeuge nur bedingt unterstützt.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OWL D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Enthält OWL Lite und ist Teilsprache von OWL Full.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Entscheidbar.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Wird von aktuellen Softwarewerkzeugen fast vollständig unterstützt.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Komplexität NExpTime (worst-case).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OWL Lite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Ist Teilsprache von OWL DL und OWL Full.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Entscheidbar.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Wenig ausdrucksstark.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Komplexität ExpTime (worst-case).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52F1F-0967-45F3-AA98-370480AB54C9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OWL Dokumente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ind RDF Dokumente 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(zumindest in der Standard-Syntax; es gibt auch andere)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bestehen au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Kopf mit allgemeinen Angaben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Rest mit der eigentlichen Ontologie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212AA-57F0-4CAD-B939-F124CB94BB6A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Der Kopf eines OWL Dokumentes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240840" y="2285640"/>
            <a:ext cx="1300500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Definition von Namespaces in der Wurz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rdf:RDF</a:t>
            </a:r>
            <a:endParaRPr b="0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xmln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="http://www.semanticweb-grundlagen.de/beispielontologie#"</a:t>
            </a:r>
            <a:endParaRPr b="0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xmlns:rd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="http://www.w3.org/1999/02/22-rdf-syntax-ns#"</a:t>
            </a:r>
            <a:endParaRPr b="0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xmlns:xs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="http://www.w3.org/2001/XMLSchema#"</a:t>
            </a:r>
            <a:endParaRPr b="0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xmlns:rdf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="http://www.w3.org/2000/01/rdf-schema#"</a:t>
            </a:r>
            <a:endParaRPr b="0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xmlns:owl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="http://www.w3.org/2002/07/owl#"&gt;</a:t>
            </a:r>
            <a:endParaRPr b="0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rdf:RDF&gt;</a:t>
            </a:r>
            <a:endParaRPr b="0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286B1-0550-4AD1-BAC7-CEBE187E89E8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Der Kopf eines OWL Dokumentes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977400" y="2387160"/>
            <a:ext cx="1136340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Allgemeine Informationen 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Ontology rdf:about=""&gt;</a:t>
            </a:r>
            <a:endParaRPr b="0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rdfs:comment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rdf:datatype="http://www.w3.org/2001/XMLSchema#string“&gt;</a:t>
            </a:r>
            <a:endParaRPr b="0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SWRC Ontologie in der Version vom Dezember 2005</a:t>
            </a:r>
            <a:endParaRPr b="0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rdfs:comment&gt;</a:t>
            </a:r>
            <a:endParaRPr b="0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versionInfo&gt;v0.5&lt;/owl:versionInfo&gt;</a:t>
            </a:r>
            <a:endParaRPr b="0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imports rdf:resource="http://www.semanticweb-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grundlagen.de/foo"/&gt;</a:t>
            </a:r>
            <a:endParaRPr b="0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priorVersio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rdf:resource="http://ontoware.org/projects/swrc"/&gt;</a:t>
            </a:r>
            <a:endParaRPr b="0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Ontology&gt;</a:t>
            </a:r>
            <a:endParaRPr b="0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2F75E-21E3-4233-91C4-06136D27950A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Der Kopf eines OWL Dokumentes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977760" y="2387160"/>
            <a:ext cx="461016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446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von RDFS geerbt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dfs:comment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dfs:label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dfs:seeAlso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dfs:isDefinedBy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außerdem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imports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06" name="Rectangle 3"/>
          <p:cNvSpPr/>
          <p:nvPr/>
        </p:nvSpPr>
        <p:spPr>
          <a:xfrm>
            <a:off x="6197760" y="2316240"/>
            <a:ext cx="6451560" cy="38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544680" indent="-5446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ür Versionierung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4680" indent="-5446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4680" indent="-5446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versionInfo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4680" indent="-5446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priorVersio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4680" indent="-5446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backwardCompatibleWith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4680" indent="-5446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incompatibleWith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4680" indent="-5446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DeprecatedClas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4680" indent="-5446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DeprecatedProperty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cover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3AD88-6604-4CCA-B578-6F9152FE8961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otiv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WL - Allgemeine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cc0006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6"/>
                </a:solidFill>
                <a:latin typeface="Helvetica Neue"/>
              </a:rPr>
              <a:t>Klassen, Rollen und Individu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lassenbeziehung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omplexe Klass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Eigenschaften von Roll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WL Varian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Anfragen an OWL-Ontolog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00A35-27F2-4C3A-A580-65D5E0399CB9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Klassen, Rollen und Individu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Die drei Bausteine von Ontologieaxiomen.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lass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0">
              <a:spcBef>
                <a:spcPts val="24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Vergleichbar mit Klassen in RDFS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Individu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0">
              <a:spcBef>
                <a:spcPts val="24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Vergleichbar mit Objekten in RDFS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oll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0">
              <a:spcBef>
                <a:spcPts val="24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Vergleichbar mit Properties in RDFS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9EA16-EA73-4A9B-9E21-E249E9143B87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Klass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Defini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11456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Class rdf:ID="Professor"/&gt;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114560" indent="0">
              <a:spcBef>
                <a:spcPts val="24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114560" indent="0">
              <a:spcBef>
                <a:spcPts val="24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vordefiniert: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2" marL="118260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Thing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2" marL="118260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Nothing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6" name=""/>
          <p:cNvGraphicFramePr/>
          <p:nvPr/>
        </p:nvGraphicFramePr>
        <p:xfrm>
          <a:off x="687240" y="3683160"/>
          <a:ext cx="6070680" cy="5483160"/>
        </p:xfrm>
        <a:graphic>
          <a:graphicData uri="http://schemas.openxmlformats.org/drawingml/2006/table">
            <a:tbl>
              <a:tblPr/>
              <a:tblGrid>
                <a:gridCol w="6070680"/>
              </a:tblGrid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inleitung und XML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inführung in RDF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DF Schema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gik - Grundlagen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mantik von RDF(S)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WL - Syntax und Intuition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WL - Semantik und Reasoning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WL 2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PARQL - Syntax und Intuition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onjunktive Anfragen / Einführung Regelsprachen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geln für OWL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tology Engineering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mantic Web - Anwendungen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270080" y="1638000"/>
            <a:ext cx="11175840" cy="1359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OWL - Syntax &amp; Intuition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269720" y="2882520"/>
            <a:ext cx="10464840" cy="80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Dr. Sebastian Rudolph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359" name="Rectangle 3"/>
          <p:cNvSpPr/>
          <p:nvPr/>
        </p:nvSpPr>
        <p:spPr>
          <a:xfrm>
            <a:off x="7346880" y="3309840"/>
            <a:ext cx="4622760" cy="389160"/>
          </a:xfrm>
          <a:prstGeom prst="rect">
            <a:avLst/>
          </a:prstGeom>
          <a:solidFill>
            <a:srgbClr val="00cc99"/>
          </a:solidFill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0" name="Rectangle 4"/>
          <p:cNvSpPr/>
          <p:nvPr/>
        </p:nvSpPr>
        <p:spPr>
          <a:xfrm>
            <a:off x="7345440" y="3325680"/>
            <a:ext cx="462600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3120" tIns="38160" bIns="38160" anchor="b">
            <a:noAutofit/>
          </a:bodyPr>
          <a:p>
            <a:pPr algn="ctr">
              <a:lnSpc>
                <a:spcPct val="100000"/>
              </a:lnSpc>
              <a:spcBef>
                <a:spcPts val="1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63636"/>
                </a:solidFill>
                <a:latin typeface="Helvetica Neue"/>
              </a:rPr>
              <a:t>Semantic Web Architecture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1" name="Rectangle 5"/>
          <p:cNvSpPr/>
          <p:nvPr/>
        </p:nvSpPr>
        <p:spPr>
          <a:xfrm>
            <a:off x="7346880" y="3676680"/>
            <a:ext cx="4632480" cy="57164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362" name="Picture 6" descr=""/>
          <p:cNvPicPr/>
          <p:nvPr/>
        </p:nvPicPr>
        <p:blipFill>
          <a:blip r:embed="rId1"/>
          <a:stretch/>
        </p:blipFill>
        <p:spPr>
          <a:xfrm>
            <a:off x="7532640" y="3906720"/>
            <a:ext cx="4280040" cy="4430880"/>
          </a:xfrm>
          <a:prstGeom prst="rect">
            <a:avLst/>
          </a:prstGeom>
          <a:ln w="0">
            <a:noFill/>
          </a:ln>
        </p:spPr>
      </p:pic>
      <p:sp>
        <p:nvSpPr>
          <p:cNvPr id="363" name="Rectangle 7"/>
          <p:cNvSpPr/>
          <p:nvPr/>
        </p:nvSpPr>
        <p:spPr>
          <a:xfrm>
            <a:off x="7643880" y="5780160"/>
            <a:ext cx="3254400" cy="2906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4" name="Rectangle 8"/>
          <p:cNvSpPr/>
          <p:nvPr/>
        </p:nvSpPr>
        <p:spPr>
          <a:xfrm>
            <a:off x="8507520" y="8313840"/>
            <a:ext cx="1766880" cy="3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77400" tIns="38160" bIns="38160" anchor="ctr">
            <a:noAutofit/>
          </a:bodyPr>
          <a:p>
            <a:pPr algn="ctr">
              <a:lnSpc>
                <a:spcPct val="100000"/>
              </a:lnSpc>
              <a:spcBef>
                <a:spcPts val="1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63636"/>
                </a:solidFill>
                <a:latin typeface="Helvetica Neue"/>
              </a:rPr>
              <a:t>Now standardized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5" name="Rectangle 9"/>
          <p:cNvSpPr/>
          <p:nvPr/>
        </p:nvSpPr>
        <p:spPr>
          <a:xfrm>
            <a:off x="7643880" y="4502160"/>
            <a:ext cx="4116240" cy="1262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6" name="Rectangle 10"/>
          <p:cNvSpPr/>
          <p:nvPr/>
        </p:nvSpPr>
        <p:spPr>
          <a:xfrm>
            <a:off x="8150400" y="4546440"/>
            <a:ext cx="167472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77400" tIns="38160" bIns="38160" anchor="ctr">
            <a:noAutofit/>
          </a:bodyPr>
          <a:p>
            <a:pPr algn="ctr">
              <a:lnSpc>
                <a:spcPct val="100000"/>
              </a:lnSpc>
              <a:spcBef>
                <a:spcPts val="1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63636"/>
                </a:solidFill>
                <a:latin typeface="Helvetica Neue"/>
              </a:rPr>
              <a:t>Current research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7" name="Rectangle 11"/>
          <p:cNvSpPr/>
          <p:nvPr/>
        </p:nvSpPr>
        <p:spPr>
          <a:xfrm>
            <a:off x="7480440" y="3848040"/>
            <a:ext cx="4457520" cy="487692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368" name="Picture 12" descr=""/>
          <p:cNvPicPr/>
          <p:nvPr/>
        </p:nvPicPr>
        <p:blipFill>
          <a:blip r:embed="rId2"/>
          <a:srcRect l="33175" t="42792" r="44279" b="39723"/>
          <a:stretch/>
        </p:blipFill>
        <p:spPr>
          <a:xfrm>
            <a:off x="8940960" y="5829480"/>
            <a:ext cx="965160" cy="774360"/>
          </a:xfrm>
          <a:prstGeom prst="rect">
            <a:avLst/>
          </a:prstGeom>
          <a:ln w="0">
            <a:noFill/>
          </a:ln>
        </p:spPr>
      </p:pic>
      <p:sp>
        <p:nvSpPr>
          <p:cNvPr id="369" name="Rectangle 63"/>
          <p:cNvSpPr/>
          <p:nvPr/>
        </p:nvSpPr>
        <p:spPr>
          <a:xfrm>
            <a:off x="647640" y="5791320"/>
            <a:ext cx="6108840" cy="431640"/>
          </a:xfrm>
          <a:prstGeom prst="rect">
            <a:avLst/>
          </a:prstGeom>
          <a:noFill/>
          <a:ln w="88920">
            <a:solidFill>
              <a:srgbClr val="cc0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0" name="Rectangle 64"/>
          <p:cNvSpPr/>
          <p:nvPr/>
        </p:nvSpPr>
        <p:spPr>
          <a:xfrm>
            <a:off x="0" y="9461520"/>
            <a:ext cx="1463040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Helvetica Neue"/>
              </a:rPr>
              <a:t>entspricht Kapitel 5 des Buches „Semantic Web - Grundlagen“ - siehe auch </a:t>
            </a:r>
            <a:r>
              <a:rPr b="0" lang="en-US" sz="1500" spc="-1" strike="noStrike" u="sng">
                <a:solidFill>
                  <a:srgbClr val="009999"/>
                </a:solidFill>
                <a:uFillTx/>
                <a:latin typeface="Helvetica Neue"/>
                <a:hlinkClick r:id="rId3"/>
              </a:rPr>
              <a:t>http://www.semantic-web-grundlagen.de/index.php/Kapitel_5</a:t>
            </a:r>
            <a:r>
              <a:rPr b="0" lang="en-US" sz="1500" spc="-1" strike="noStrike">
                <a:solidFill>
                  <a:srgbClr val="000000"/>
                </a:solidFill>
                <a:latin typeface="Helvetica Neue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1" name="Rectangle 65"/>
          <p:cNvSpPr/>
          <p:nvPr/>
        </p:nvSpPr>
        <p:spPr>
          <a:xfrm>
            <a:off x="317520" y="895320"/>
            <a:ext cx="1235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Gill Sans"/>
                <a:hlinkClick r:id="rId4"/>
              </a:rPr>
              <a:t>www.semantic-web-grundlagen.de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97168" presetSubtype="788205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entr" presetID="0" presetSubtype="9335446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162EF-1097-4FFB-8F52-02D261915363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Individu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Definition durch Klassenzugehörigkeit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11456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rdf:Description rdf:ID="RudiStuder"&gt;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11456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rdf:type rdf:resource="#Professor"/&gt;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11456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rdf:Description&gt;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114560" indent="0">
              <a:spcBef>
                <a:spcPts val="24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114560" indent="0">
              <a:spcBef>
                <a:spcPts val="24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gleichbedeutend: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2" marL="16826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Professor rdf:ID="RudiStuder"/&gt;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E1475-D1FF-401B-B12A-621ED3DAF0D0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bstrakte Roll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766800" y="2387160"/>
            <a:ext cx="1188072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abstrakte Rollen werden definiert wie Klass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11456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ObjectProperty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  <a:ea typeface="Courier New"/>
              </a:rPr>
              <a:t>rdf:ID="Zugehoerigkeit"/&gt;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Domain und Range abstrakter Roll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11456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ObjectProperty rdf:ID="Zugehoerigkeit"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111456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dfs:domain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rdf:resource="#Person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111456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dfs:range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rdf:resource="#Organisation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111456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ObjectProperty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40BCC-C7E9-4C24-AB6F-5BD26B9DC03F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konkrete Roll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770040" y="2387520"/>
            <a:ext cx="11874240" cy="8826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Helvetica Neue"/>
              </a:rPr>
              <a:t>konkrete Rollen haben Datentypen im Range</a:t>
            </a:r>
            <a:r>
              <a:rPr b="0" lang="en-US" sz="3300" spc="-1" strike="noStrike">
                <a:solidFill>
                  <a:srgbClr val="000000"/>
                </a:solidFill>
                <a:latin typeface="Helvetica Neue"/>
              </a:rPr>
              <a:t>	</a:t>
            </a:r>
            <a:br>
              <a:rPr sz="3300"/>
            </a:br>
            <a:r>
              <a:rPr b="0" lang="en-US" sz="3300" spc="-1" strike="noStrike">
                <a:solidFill>
                  <a:srgbClr val="000000"/>
                </a:solidFill>
                <a:latin typeface="Helvetica Neue"/>
              </a:rPr>
              <a:t> </a:t>
            </a:r>
            <a:r>
              <a:rPr b="0" lang="en-US" sz="33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DatatypeProperty rdf:ID="Vorname"/&gt;</a:t>
            </a:r>
            <a:endParaRPr b="0" lang="en-US" sz="33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Helvetica Neue"/>
              </a:rPr>
              <a:t>Domain und Range konkreter Rollen</a:t>
            </a:r>
            <a:endParaRPr b="0" lang="en-US" sz="3300" spc="-1" strike="noStrike">
              <a:solidFill>
                <a:srgbClr val="000000"/>
              </a:solidFill>
              <a:latin typeface="Helvetica Neue"/>
            </a:endParaRPr>
          </a:p>
          <a:p>
            <a:pPr lvl="1" marL="111456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DatatypeProperty rdf:ID="Vorname"&gt;</a:t>
            </a:r>
            <a:endParaRPr b="0" lang="en-US" sz="3300" spc="-1" strike="noStrike">
              <a:solidFill>
                <a:srgbClr val="000000"/>
              </a:solidFill>
              <a:latin typeface="Helvetica Neue"/>
            </a:endParaRPr>
          </a:p>
          <a:p>
            <a:pPr lvl="1" marL="111456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33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en-US" sz="3300" spc="-1" strike="noStrike">
                <a:solidFill>
                  <a:srgbClr val="000000"/>
                </a:solidFill>
                <a:latin typeface="Courier New"/>
                <a:ea typeface="Courier New"/>
              </a:rPr>
              <a:t>rdfs:domain</a:t>
            </a:r>
            <a:r>
              <a:rPr b="0" lang="en-US" sz="3300" spc="-1" strike="noStrike">
                <a:solidFill>
                  <a:srgbClr val="000000"/>
                </a:solidFill>
                <a:latin typeface="Courier New"/>
                <a:ea typeface="Courier New"/>
              </a:rPr>
              <a:t> rdf:resource="#Person" /&gt;</a:t>
            </a:r>
            <a:endParaRPr b="0" lang="en-US" sz="3300" spc="-1" strike="noStrike">
              <a:solidFill>
                <a:srgbClr val="000000"/>
              </a:solidFill>
              <a:latin typeface="Helvetica Neue"/>
            </a:endParaRPr>
          </a:p>
          <a:p>
            <a:pPr lvl="1" marL="111456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33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en-US" sz="3300" spc="-1" strike="noStrike">
                <a:solidFill>
                  <a:srgbClr val="000000"/>
                </a:solidFill>
                <a:latin typeface="Courier New"/>
                <a:ea typeface="Courier New"/>
              </a:rPr>
              <a:t>rdfs:range</a:t>
            </a:r>
            <a:r>
              <a:rPr b="0" lang="en-US" sz="3300" spc="-1" strike="noStrike">
                <a:solidFill>
                  <a:srgbClr val="000000"/>
                </a:solidFill>
                <a:latin typeface="Courier New"/>
                <a:ea typeface="Courier New"/>
              </a:rPr>
              <a:t>  rdf:resource="&amp;xsd;string"/&gt;</a:t>
            </a:r>
            <a:endParaRPr b="0" lang="en-US" sz="3300" spc="-1" strike="noStrike">
              <a:solidFill>
                <a:srgbClr val="000000"/>
              </a:solidFill>
              <a:latin typeface="Helvetica Neue"/>
            </a:endParaRPr>
          </a:p>
          <a:p>
            <a:pPr lvl="1" marL="111456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DatatypeProperty&gt;</a:t>
            </a:r>
            <a:endParaRPr b="0" lang="en-US" sz="33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Helvetica Neue"/>
              </a:rPr>
              <a:t>Viele XML Datentypen können verwendet werden.</a:t>
            </a:r>
            <a:br>
              <a:rPr sz="3300"/>
            </a:br>
            <a:r>
              <a:rPr b="0" lang="en-US" sz="3300" spc="-1" strike="noStrike">
                <a:solidFill>
                  <a:srgbClr val="000000"/>
                </a:solidFill>
                <a:latin typeface="Helvetica Neue"/>
              </a:rPr>
              <a:t>Im Standard vorgeschrieben sind </a:t>
            </a:r>
            <a:r>
              <a:rPr b="0" lang="en-US" sz="3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</a:t>
            </a:r>
            <a:r>
              <a:rPr b="0" lang="en-US" sz="3300" spc="-1" strike="noStrike">
                <a:solidFill>
                  <a:srgbClr val="000000"/>
                </a:solidFill>
                <a:latin typeface="Helvetica Neue"/>
              </a:rPr>
              <a:t> und </a:t>
            </a:r>
            <a:r>
              <a:rPr b="0" lang="en-US" sz="3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</a:t>
            </a:r>
            <a:r>
              <a:rPr b="0" lang="en-US" sz="3300" spc="-1" strike="noStrike">
                <a:solidFill>
                  <a:srgbClr val="000000"/>
                </a:solidFill>
                <a:latin typeface="Helvetica Neue"/>
              </a:rPr>
              <a:t>.</a:t>
            </a:r>
            <a:endParaRPr b="0" lang="en-US" sz="33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2DD25-9C8D-43D1-8AAE-EB0AD91C1CD5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498320" y="99720"/>
            <a:ext cx="11048760" cy="2127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Individuen und Roll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61600" y="2417400"/>
            <a:ext cx="11876040" cy="73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Person rdf:ID="RudiStuder"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Zugehoerigkeit rdf:resource="#AIFB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Zugehoerigkeit rdf:resource="#ontoprise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orname rdf:datatype="&amp;xsd;string"&gt;Rudi&lt;/Vorname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Person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ollen sind im allgemeinen nicht funktional.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A48C3-68FF-4E7A-8FA1-7CEBD74F765C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otiv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WL - Allgemeine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lassen, Rollen und Individu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cc0006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6"/>
                </a:solidFill>
                <a:latin typeface="Helvetica Neue"/>
              </a:rPr>
              <a:t>Klassenbeziehung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omplexe Klass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Eigenschaften von Roll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WL Varian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Anfragen an OWL-Ontolog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8C507-3758-40FD-B31E-4A83AED4C28C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Einfache Klassenbeziehung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1390320" y="2387160"/>
            <a:ext cx="1105524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Class rdf:ID="Professor"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dfs:subClassOf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df:resource="#Fakultaetsmitglied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Class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Class rdf:ID="Fakultaetsmitglied"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dfs:subClassOf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rdf:resource="#Person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Class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Es folgt durch Inferenz, dass </a:t>
            </a:r>
            <a:r>
              <a:rPr b="0" lang="en-US" sz="3100" spc="-1" strike="noStrike">
                <a:solidFill>
                  <a:srgbClr val="000000"/>
                </a:solidFill>
                <a:latin typeface="Courier New"/>
                <a:ea typeface="Courier New"/>
              </a:rPr>
              <a:t>Professor</a:t>
            </a: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 eine Subklasse von </a:t>
            </a:r>
            <a:r>
              <a:rPr b="0" lang="en-US" sz="3100" spc="-1" strike="noStrike">
                <a:solidFill>
                  <a:srgbClr val="000000"/>
                </a:solidFill>
                <a:latin typeface="Courier New"/>
                <a:ea typeface="Courier New"/>
              </a:rPr>
              <a:t>Person</a:t>
            </a: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 ist.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05F30-BB0F-489D-9C93-2FB81E40F0DF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Einfache Klassenbeziehung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1270080" y="2018880"/>
            <a:ext cx="11531520" cy="8293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44680" indent="0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Class rdf:ID="Professor"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rdfs:subClassOf rdf:resource="#Fakultaetsmitglied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Class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Class rdf:ID="Buch"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rdfs:subClassOf rdf:resource="#Publikation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Class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Class rdf:about="#Fakultaetsmitglied"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disjointWith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rdf:resource="#Publikation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Class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Helvetica Neue"/>
              </a:rPr>
              <a:t>Es folgt durch Inferenz, dass </a:t>
            </a:r>
            <a:r>
              <a:rPr b="0" lang="en-US" sz="3300" spc="-1" strike="noStrike">
                <a:solidFill>
                  <a:srgbClr val="000000"/>
                </a:solidFill>
                <a:latin typeface="Courier New"/>
                <a:ea typeface="Courier New"/>
              </a:rPr>
              <a:t>Professor</a:t>
            </a:r>
            <a:r>
              <a:rPr b="0" lang="en-US" sz="3300" spc="-1" strike="noStrike">
                <a:solidFill>
                  <a:srgbClr val="000000"/>
                </a:solidFill>
                <a:latin typeface="Helvetica Neue"/>
              </a:rPr>
              <a:t> und </a:t>
            </a:r>
            <a:r>
              <a:rPr b="0" lang="en-US" sz="3300" spc="-1" strike="noStrike">
                <a:solidFill>
                  <a:srgbClr val="000000"/>
                </a:solidFill>
                <a:latin typeface="Courier New"/>
                <a:ea typeface="Courier New"/>
              </a:rPr>
              <a:t>Buch</a:t>
            </a:r>
            <a:r>
              <a:rPr b="0" lang="en-US" sz="3300" spc="-1" strike="noStrike">
                <a:solidFill>
                  <a:srgbClr val="000000"/>
                </a:solidFill>
                <a:latin typeface="Helvetica Neue"/>
              </a:rPr>
              <a:t> ebenfalls disjunkte Klassen sind.</a:t>
            </a:r>
            <a:endParaRPr b="0" lang="en-US" sz="33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D6A5C-5A2C-42EC-A484-058CBAE06643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Einfache Klassenbeziehung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1466640" y="2133360"/>
            <a:ext cx="1105524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marL="5281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Class rdf:ID="Buch"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281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rdfs:subClassOf rdf:resource="#Publikation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281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Class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2812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5281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Class rdf:about="#Publikation"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281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equivalentClass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df:resource="#Publication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281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Class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281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2812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Helvetica Neue"/>
              </a:rPr>
              <a:t>Es folgt durch Inferenz, dass </a:t>
            </a:r>
            <a:r>
              <a:rPr b="0" lang="en-US" sz="3300" spc="-1" strike="noStrike">
                <a:solidFill>
                  <a:srgbClr val="000000"/>
                </a:solidFill>
                <a:latin typeface="Courier New"/>
                <a:ea typeface="Courier New"/>
              </a:rPr>
              <a:t>Buch</a:t>
            </a:r>
            <a:r>
              <a:rPr b="0" lang="en-US" sz="3300" spc="-1" strike="noStrike">
                <a:solidFill>
                  <a:srgbClr val="000000"/>
                </a:solidFill>
                <a:latin typeface="Helvetica Neue"/>
              </a:rPr>
              <a:t> eine Subklasse von </a:t>
            </a:r>
            <a:r>
              <a:rPr b="0" lang="en-US" sz="33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ation</a:t>
            </a:r>
            <a:r>
              <a:rPr b="0" lang="en-US" sz="3300" spc="-1" strike="noStrike">
                <a:solidFill>
                  <a:srgbClr val="000000"/>
                </a:solidFill>
                <a:latin typeface="Helvetica Neue"/>
              </a:rPr>
              <a:t> ist.</a:t>
            </a:r>
            <a:endParaRPr b="0" lang="en-US" sz="33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8661A-320F-4EA1-AAA5-AFB0ED1924BD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Individuen und Klassenbeziehung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1270080" y="2018880"/>
            <a:ext cx="11531520" cy="849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Buch rdf:ID="SemanticWebGrundlagen"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Autor rdf:resource="#PascalHitzler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Autor rdf:resource="#MarkusKrötzsch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Autor rdf:resource="#SebastianRudolph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Autor rdf:resource="#YorkSure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Buch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Class rdf:about="#Buch"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rdfs:subClassOf rdf:resource="#Publikation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Class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Es folgt durch Inferenz, dass </a:t>
            </a:r>
            <a:r>
              <a:rPr b="0" lang="en-US" sz="3400" spc="-1" strike="noStrike">
                <a:solidFill>
                  <a:srgbClr val="000000"/>
                </a:solidFill>
                <a:latin typeface="Courier New"/>
                <a:ea typeface="Courier New"/>
              </a:rPr>
              <a:t>SemanticWebGrundlagen</a:t>
            </a: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 eine </a:t>
            </a:r>
            <a:r>
              <a:rPr b="0" lang="en-US" sz="34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kation</a:t>
            </a: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 ist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0C391-D09F-49D3-9C0F-0A3D6B5D0EDD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485720" y="495360"/>
            <a:ext cx="11048760" cy="13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Beziehungen zwischen Individu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1701720" y="2007720"/>
            <a:ext cx="11049120" cy="7745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Professor rdf:ID="RudiStuder"/&gt;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rdf:Description rdf:about="#RudiStuder"&gt;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en-US" sz="31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sameAs</a:t>
            </a:r>
            <a:r>
              <a:rPr b="0" lang="en-US" sz="31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Courier New"/>
                <a:ea typeface="Courier New"/>
              </a:rPr>
              <a:t>rdf:resource="#ProfessorStuder"/&gt;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rdf:Description&gt;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Es folgt durch Inferenz, dass </a:t>
            </a:r>
            <a:r>
              <a:rPr b="0" lang="en-US" sz="3100" spc="-1" strike="noStrike">
                <a:solidFill>
                  <a:srgbClr val="000000"/>
                </a:solidFill>
                <a:latin typeface="Courier New"/>
                <a:ea typeface="Courier New"/>
              </a:rPr>
              <a:t>ProfessorStuder</a:t>
            </a: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 ein </a:t>
            </a:r>
            <a:r>
              <a:rPr b="0" lang="en-US" sz="3100" spc="-1" strike="noStrike">
                <a:solidFill>
                  <a:srgbClr val="000000"/>
                </a:solidFill>
                <a:latin typeface="Courier New"/>
                <a:ea typeface="Courier New"/>
              </a:rPr>
              <a:t>Professor</a:t>
            </a: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 ist.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Verschiedenheit von Individuen mittels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 </a:t>
            </a:r>
            <a:r>
              <a:rPr b="1" lang="en-US" sz="31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differentFrom</a:t>
            </a: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.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EE843-319A-4CAB-B0DB-158137870D9C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otiv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WL - Allgemeine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lassen, Rollen und Individu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lassenbeziehung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omplexe Klass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Eigenschaften von Roll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WL Varian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Anfragen an OWL-Ontolog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26368-66E9-4BD7-BEA4-330F75A5DEC5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1625400" y="2007720"/>
            <a:ext cx="11048760" cy="7745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AllDifferent&gt;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distinctMembers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rdf:parseType="Collection"&gt;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Person rdf:about="#RudiStuder"/&gt;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Person rdf:about="#YorkSure"/&gt;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Person rdf:about="#PascalHitzler"/&gt;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distinctMembers&gt;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AllDifferent&gt;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Abgekürzte Schreibweise anstelle der Verwendung von mehrere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differentFrom</a:t>
            </a: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Der Einsatz vo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AllDifferent</a:t>
            </a: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 un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distinctMembers</a:t>
            </a: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 ist nur dafür vorgesehen.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48" name="Rectangle 2"/>
          <p:cNvSpPr/>
          <p:nvPr/>
        </p:nvSpPr>
        <p:spPr>
          <a:xfrm>
            <a:off x="1486080" y="495360"/>
            <a:ext cx="11048760" cy="13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Beziehungen zwischen Individuen</a:t>
            </a: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cover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5DCD7-FAB3-4A9C-905C-96A56E1B9A01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bgeschlossene Klass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162576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Class rdf:about="#SekretaerinnenVonStuder"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oneOf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rdf:parseType="Collection"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Person rdf:about="#GiselaSchillinger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Person rdf:about="#BeateKuehner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oneOf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Class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Dies besagt, dass es nur 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  <a:ea typeface="Arial"/>
              </a:rPr>
              <a:t>genau diese beiden</a:t>
            </a: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 </a:t>
            </a:r>
            <a:r>
              <a:rPr b="0" lang="en-US" sz="4200" spc="-1" strike="noStrike">
                <a:solidFill>
                  <a:srgbClr val="000000"/>
                </a:solidFill>
                <a:latin typeface="Courier New"/>
                <a:ea typeface="Courier New"/>
              </a:rPr>
              <a:t>SekretaerinnenVonStuder</a:t>
            </a: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 gibt.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526D3-C36B-4F49-8FD8-C91D9F1586D1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otiv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WL - Allgemeine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lassen, Rollen und Individu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lassenbeziehung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cc0006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6"/>
                </a:solidFill>
                <a:latin typeface="Helvetica Neue"/>
              </a:rPr>
              <a:t>komplexe Klass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Eigenschaften von Roll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WL Varian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Anfragen an OWL-Ontolog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D696C-5334-4F13-A6C3-B151CE03DBDA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49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Logische Klassenkonstruktor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logisches Und (Konjunktion): 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intersectionOf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logisches Oder (Disjunktion): 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unionOf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logisches Nicht (Negation): 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complementOf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Werden verwendet, um komplexe Klassen aus einfachen Klassen zu konstruieren.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8E7F8-337E-45BF-A9ED-8989CFE564C6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Konjunktio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167652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446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Class rdf:about="#SekretaerinnenVonStuder"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equivalentClass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Class&gt;   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intersectionOf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rdf:parseType="Collection"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Class rdf:about="#Sekretaerinnen"/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Class rdf:about="#AngehoerigeAGStuder"/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intersectionOf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Class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equivalentClass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Class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Es folgt z.B. durch Inferenz, dass alle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  <a:ea typeface="Courier New"/>
              </a:rPr>
              <a:t>SekretaerinnenVonStuder</a:t>
            </a: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 auch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  <a:ea typeface="Courier New"/>
              </a:rPr>
              <a:t>Sekretaerinnen</a:t>
            </a: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 sind.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9F301-2439-4FF6-A711-5A2E48900D0B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Disjunktio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1523520" y="2019240"/>
            <a:ext cx="1153188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446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Class rdf:about="#Professor"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rdfs:subClassOf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Class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unionOf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rdf:parseType="Collection"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Class rdf:about="#aktivLehrend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Class rdf:about="#imRuhestand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unionOf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Class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rdfs:subClassOf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Class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65996-BC49-41A2-B8E3-94880DDDA6AB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Negatio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971640" y="2387160"/>
            <a:ext cx="1157112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446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Class rdf:about="#Fakultaetsmitglied"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rdfs:subClassOf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Class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complementOf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rdf:resource="#Publikation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Class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rdfs:subClassOf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Class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emantisch äquivalente Aussage: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Class rdf:about="#Fakultaetsmitglied"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disjointWith rdf:resource="#Publikation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Class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4DA91-9015-4F1C-A9CB-3DA288E041B1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485720" y="-49320"/>
            <a:ext cx="11048760" cy="1890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00"/>
                </a:solidFill>
                <a:latin typeface="Bodoni SvtyTwo SC ITC TT-Book"/>
              </a:rPr>
              <a:t>Rolleneinschränkungen (allValuesFrom)</a:t>
            </a:r>
            <a:endParaRPr b="0" lang="en-US" sz="57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1331640" y="1828440"/>
            <a:ext cx="11876040" cy="8636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dienen der Definition komplexer Klassen durch Rollen</a:t>
            </a: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Class rdf:ID="Pruefung"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rdfs:subClassOf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Restriction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onProperty rdf:resource="#hatPruefer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allValuesFrom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rdf:resource="#Professor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Restriction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rdfs:subClassOf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Class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Helvetica Neue"/>
              </a:rPr>
              <a:t>D.h. </a:t>
            </a:r>
            <a:r>
              <a:rPr b="0" i="1" lang="en-US" sz="3700" spc="-1" strike="noStrike">
                <a:solidFill>
                  <a:srgbClr val="000000"/>
                </a:solidFill>
                <a:latin typeface="Arial"/>
                <a:ea typeface="Arial"/>
              </a:rPr>
              <a:t>alle</a:t>
            </a:r>
            <a:r>
              <a:rPr b="0" lang="en-US" sz="3700" spc="-1" strike="noStrike">
                <a:solidFill>
                  <a:srgbClr val="000000"/>
                </a:solidFill>
                <a:latin typeface="Helvetica Neue"/>
              </a:rPr>
              <a:t> Prüfer einer Prüfung müssen Professoren sein.</a:t>
            </a:r>
            <a:endParaRPr b="0" lang="en-US" sz="37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6800F-142C-45C3-BB32-1C1682F76A02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/>
          </p:nvPr>
        </p:nvSpPr>
        <p:spPr>
          <a:xfrm>
            <a:off x="950760" y="1752120"/>
            <a:ext cx="11876400" cy="764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6000"/>
          </a:bodyPr>
          <a:p>
            <a:pPr marL="5227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5227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Class rdf:about="#Pruefung"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227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rdfs:subClassOf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227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Restriction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227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onProperty rdf:resource="#hatPruefer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227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someValuesFrom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rdf:resource="#Person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227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Restriction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227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rdfs:subClassOf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227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Class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2272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Helvetica Neue"/>
              </a:rPr>
              <a:t>D.h. jede Prüfung muss </a:t>
            </a:r>
            <a:r>
              <a:rPr b="0" i="1" lang="en-US" sz="3700" spc="-1" strike="noStrike">
                <a:solidFill>
                  <a:srgbClr val="000000"/>
                </a:solidFill>
                <a:latin typeface="Arial"/>
                <a:ea typeface="Arial"/>
              </a:rPr>
              <a:t>mindestens einen</a:t>
            </a:r>
            <a:r>
              <a:rPr b="0" lang="en-US" sz="3700" spc="-1" strike="noStrike">
                <a:solidFill>
                  <a:srgbClr val="000000"/>
                </a:solidFill>
                <a:latin typeface="Helvetica Neue"/>
              </a:rPr>
              <a:t> Prüfer haben.</a:t>
            </a:r>
            <a:endParaRPr b="0" lang="en-US" sz="37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72" name="Rectangle 2"/>
          <p:cNvSpPr/>
          <p:nvPr/>
        </p:nvSpPr>
        <p:spPr>
          <a:xfrm>
            <a:off x="1486080" y="-49320"/>
            <a:ext cx="11048760" cy="18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00"/>
                </a:solidFill>
                <a:latin typeface="Bodoni SvtyTwo SC ITC TT-Book"/>
              </a:rPr>
              <a:t>Rolleneinschränkungen (someValuesFrom)</a:t>
            </a:r>
            <a:endParaRPr b="0" lang="en-US" sz="57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cover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988C1-1AAF-4F5B-9810-6E74F8766878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/>
          </p:nvPr>
        </p:nvSpPr>
        <p:spPr>
          <a:xfrm>
            <a:off x="863640" y="2412720"/>
            <a:ext cx="12877920" cy="7645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Class rdf:about="#Pruefung"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rdfs:subClassOf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Restriction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onProperty rdf:resource="#hatPruefer"/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maxCardinality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rdf:datatype="&amp;xsd;nonNegativeInteger"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maxCardinality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Restriction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rdfs:subClassOf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Class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Eine Prüfung kann </a:t>
            </a:r>
            <a:r>
              <a:rPr b="0" i="1" lang="en-US" sz="3500" spc="-1" strike="noStrike">
                <a:solidFill>
                  <a:srgbClr val="000000"/>
                </a:solidFill>
                <a:latin typeface="Arial"/>
                <a:ea typeface="Arial"/>
              </a:rPr>
              <a:t>höchstens zwei</a:t>
            </a: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 Prüfer haben.</a:t>
            </a: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75" name="Rectangle 2"/>
          <p:cNvSpPr/>
          <p:nvPr/>
        </p:nvSpPr>
        <p:spPr>
          <a:xfrm>
            <a:off x="1486080" y="-49320"/>
            <a:ext cx="11048760" cy="18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00"/>
                </a:solidFill>
                <a:latin typeface="Bodoni SvtyTwo SC ITC TT-Book"/>
              </a:rPr>
              <a:t>Rolleneinschränkungen (Kardinalitäten)</a:t>
            </a:r>
            <a:endParaRPr b="0" lang="en-US" sz="5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6" name="Text Box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A1811-41CD-47FC-936B-93DA0E0C3437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cover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18A4C-0FA7-4EC5-8620-278CEFC48F68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cc0006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6"/>
                </a:solidFill>
                <a:latin typeface="Helvetica Neue"/>
              </a:rPr>
              <a:t>Motiv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WL - Allgemeine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lassen, Rollen und Individu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lassenbeziehung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omplexe Klass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Eigenschaften von Roll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WL Varian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Anfragen an OWL-Ontolog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48C32-B089-493B-8520-0B23E6C60D55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/>
          </p:nvPr>
        </p:nvSpPr>
        <p:spPr>
          <a:xfrm>
            <a:off x="1026720" y="2338560"/>
            <a:ext cx="11876040" cy="764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Class rdf:about="#Pruefung"&gt;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rdfs:subClassOf&gt;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Restriction&gt;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onProperty rdf:resource="#hatThema"/&gt;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minCardinality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rdf:datatype="&amp;xsd;nonNegativeInteger"&gt;</a:t>
            </a:r>
            <a:br>
              <a:rPr sz="2300"/>
            </a:br>
            <a:r>
              <a:rPr b="0" lang="en-US" sz="2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3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minCardinality&gt;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Restriction&gt;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rdfs:subClassOf&gt;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Class&gt;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Helvetica Neue"/>
              </a:rPr>
              <a:t>Eine Prüfung muss sich über </a:t>
            </a:r>
            <a:r>
              <a:rPr b="0" i="1" lang="en-US" sz="3300" spc="-1" strike="noStrike">
                <a:solidFill>
                  <a:srgbClr val="000000"/>
                </a:solidFill>
                <a:latin typeface="Arial"/>
                <a:ea typeface="Arial"/>
              </a:rPr>
              <a:t>mindestens drei</a:t>
            </a:r>
            <a:r>
              <a:rPr b="0" lang="en-US" sz="3300" spc="-1" strike="noStrike">
                <a:solidFill>
                  <a:srgbClr val="000000"/>
                </a:solidFill>
                <a:latin typeface="Helvetica Neue"/>
              </a:rPr>
              <a:t> Themengebiete erstrecken.</a:t>
            </a:r>
            <a:endParaRPr b="0" lang="en-US" sz="33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79" name="Rectangle 2"/>
          <p:cNvSpPr/>
          <p:nvPr/>
        </p:nvSpPr>
        <p:spPr>
          <a:xfrm>
            <a:off x="1486080" y="-49320"/>
            <a:ext cx="11048760" cy="18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00"/>
                </a:solidFill>
                <a:latin typeface="Bodoni SvtyTwo SC ITC TT-Book"/>
              </a:rPr>
              <a:t>Rolleneinschränkungen (Kardinalitäten)</a:t>
            </a:r>
            <a:endParaRPr b="0" lang="en-US" sz="57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cover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4F3CE-0B47-4747-9440-772A65458BFE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/>
          </p:nvPr>
        </p:nvSpPr>
        <p:spPr>
          <a:xfrm>
            <a:off x="1331640" y="2109960"/>
            <a:ext cx="11876040" cy="764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Class rdf:about="#Pruefung"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rdfs:subClassOf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Restriction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onProperty rdf:resource="#hatThema"/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cardinality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rdf:datatype="&amp;xsd;nonNegativeInteger"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cardinality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Restriction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rdfs:subClassOf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Class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Helvetica Neue"/>
              </a:rPr>
              <a:t>Eine Prüfung muss sich über </a:t>
            </a:r>
            <a:r>
              <a:rPr b="0" i="1" lang="en-US" sz="3700" spc="-1" strike="noStrike">
                <a:solidFill>
                  <a:srgbClr val="000000"/>
                </a:solidFill>
                <a:latin typeface="Arial"/>
                <a:ea typeface="Arial"/>
              </a:rPr>
              <a:t>genau drei</a:t>
            </a:r>
            <a:r>
              <a:rPr b="0" lang="en-US" sz="3700" spc="-1" strike="noStrike">
                <a:solidFill>
                  <a:srgbClr val="000000"/>
                </a:solidFill>
                <a:latin typeface="Helvetica Neue"/>
              </a:rPr>
              <a:t> Themengebiete erstrecken.</a:t>
            </a:r>
            <a:endParaRPr b="0" lang="en-US" sz="37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82" name="Rectangle 2"/>
          <p:cNvSpPr/>
          <p:nvPr/>
        </p:nvSpPr>
        <p:spPr>
          <a:xfrm>
            <a:off x="1486080" y="-49320"/>
            <a:ext cx="11048760" cy="18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00"/>
                </a:solidFill>
                <a:latin typeface="Bodoni SvtyTwo SC ITC TT-Book"/>
              </a:rPr>
              <a:t>Rolleneinschränkungen (Kardinalitäten)</a:t>
            </a:r>
            <a:endParaRPr b="0" lang="en-US" sz="57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cover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31248-6DDC-466C-99A5-28297449883E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/>
          </p:nvPr>
        </p:nvSpPr>
        <p:spPr>
          <a:xfrm>
            <a:off x="1396800" y="1980720"/>
            <a:ext cx="11876040" cy="764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8000"/>
          </a:bodyPr>
          <a:p>
            <a:pPr marL="5335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Class rdf:ID="PruefungBeiStuder"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335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rdfs:equivalentClass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335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Restriction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335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onProperty rdf:resource="#hatPruefer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335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hasValue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rdf:resource="#RudiStuder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335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Restriction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335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rdfs:equivalentClass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335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Class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335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hasValue</a:t>
            </a:r>
            <a:r>
              <a:rPr b="0" lang="en-US" sz="4000" spc="-1" strike="noStrike">
                <a:solidFill>
                  <a:srgbClr val="000000"/>
                </a:solidFill>
                <a:latin typeface="Helvetica Neue"/>
              </a:rPr>
              <a:t> verweist immer auf eine konkrete Instanz. Dies ist äquivalent zum Beispiel auf der nächsten Folie.</a:t>
            </a:r>
            <a:endParaRPr b="0" lang="en-US" sz="4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85" name="Rectangle 2"/>
          <p:cNvSpPr/>
          <p:nvPr/>
        </p:nvSpPr>
        <p:spPr>
          <a:xfrm>
            <a:off x="1486080" y="-49320"/>
            <a:ext cx="11048760" cy="18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00"/>
                </a:solidFill>
                <a:latin typeface="Bodoni SvtyTwo SC ITC TT-Book"/>
              </a:rPr>
              <a:t>Rolleneinschränkungen </a:t>
            </a:r>
            <a:br>
              <a:rPr sz="5700"/>
            </a:br>
            <a:r>
              <a:rPr b="0" lang="en-US" sz="5700" spc="-1" strike="noStrike">
                <a:solidFill>
                  <a:srgbClr val="000000"/>
                </a:solidFill>
                <a:latin typeface="Bodoni SvtyTwo SC ITC TT-Book"/>
              </a:rPr>
              <a:t>(hasValue)</a:t>
            </a:r>
            <a:endParaRPr b="0" lang="en-US" sz="57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cover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EED63-4656-4669-B8B9-8698E8CCB12F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/>
          </p:nvPr>
        </p:nvSpPr>
        <p:spPr>
          <a:xfrm>
            <a:off x="1636560" y="1804680"/>
            <a:ext cx="11876400" cy="886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Class rdf:ID="PruefungBeiStuder"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equivalentClass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Restriction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onProperty rdf:resource="#hatPruefer"/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someValuesFrom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oneOf rdf:parseType="Collection"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Thing rdf:about="#RudiStuder"/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oneOf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someValuesFrom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Restriction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equivalentClass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Class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88" name="Rectangle 2"/>
          <p:cNvSpPr/>
          <p:nvPr/>
        </p:nvSpPr>
        <p:spPr>
          <a:xfrm>
            <a:off x="1486080" y="-49320"/>
            <a:ext cx="11048760" cy="18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00"/>
                </a:solidFill>
                <a:latin typeface="Bodoni SvtyTwo SC ITC TT-Book"/>
              </a:rPr>
              <a:t>Rolleneinschränkungen </a:t>
            </a:r>
            <a:br>
              <a:rPr sz="5700"/>
            </a:br>
            <a:r>
              <a:rPr b="0" lang="en-US" sz="5700" spc="-1" strike="noStrike">
                <a:solidFill>
                  <a:srgbClr val="000000"/>
                </a:solidFill>
                <a:latin typeface="Bodoni SvtyTwo SC ITC TT-Book"/>
              </a:rPr>
              <a:t>(hasValue)</a:t>
            </a:r>
            <a:endParaRPr b="0" lang="en-US" sz="57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cover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74B1F-8A2D-431F-B287-2B7C06ECB10E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otiv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WL - Allgemeine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lassen, Rollen und Individu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lassenbeziehung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omplexe Klass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cc0006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6"/>
                </a:solidFill>
                <a:latin typeface="Helvetica Neue"/>
              </a:rPr>
              <a:t>Eigenschaften von Roll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WL Varian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Anfragen an OWL-Ontolog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A2717-9ED3-4004-AF63-591CDC8B5FE8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Rollenbeziehung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1752120" y="2260440"/>
            <a:ext cx="1153188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ObjectProperty rdf:ID="hatPruefer"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rdfs:subPropertyO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df:resource="#hatAnwesenden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ObjectProperty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Ebenso:</a:t>
            </a:r>
            <a:r>
              <a:rPr b="0" lang="en-US" sz="4200" spc="-1" strike="noStrike">
                <a:solidFill>
                  <a:srgbClr val="000000"/>
                </a:solidFill>
                <a:latin typeface="Courier New"/>
                <a:ea typeface="Courier New"/>
              </a:rPr>
              <a:t> owl:equivalentProperty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ollen können auch invers zueinander sein: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ObjectProperty rdf:ID="hatPruefer"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inverseOf rdf:resource="#prueferVon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ObjectProperty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2DA4C-2D73-48C8-94E7-62CE21144A06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Rolleneigenschaft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Helvetica Neue"/>
              </a:rPr>
              <a:t>Domain</a:t>
            </a:r>
            <a:endParaRPr b="0" lang="en-US" sz="39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Helvetica Neue"/>
              </a:rPr>
              <a:t>Range</a:t>
            </a:r>
            <a:endParaRPr b="0" lang="en-US" sz="39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Helvetica Neue"/>
              </a:rPr>
              <a:t>Transitivität, d.h.</a:t>
            </a:r>
            <a:br>
              <a:rPr sz="3900"/>
            </a:br>
            <a:r>
              <a:rPr b="0" lang="en-US" sz="3900" spc="-1" strike="noStrike">
                <a:solidFill>
                  <a:srgbClr val="000000"/>
                </a:solidFill>
                <a:latin typeface="Helvetica Neue"/>
              </a:rPr>
              <a:t>r(a,b) und r(b,c) impliziert r(a,c)</a:t>
            </a:r>
            <a:endParaRPr b="0" lang="en-US" sz="39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Helvetica Neue"/>
              </a:rPr>
              <a:t>Symmetrie, d.h.</a:t>
            </a:r>
            <a:br>
              <a:rPr sz="3900"/>
            </a:br>
            <a:r>
              <a:rPr b="0" lang="en-US" sz="3900" spc="-1" strike="noStrike">
                <a:solidFill>
                  <a:srgbClr val="000000"/>
                </a:solidFill>
                <a:latin typeface="Helvetica Neue"/>
              </a:rPr>
              <a:t>r(a,b) impliziert r(b,a)</a:t>
            </a:r>
            <a:endParaRPr b="0" lang="en-US" sz="39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Helvetica Neue"/>
              </a:rPr>
              <a:t>Funktionalität</a:t>
            </a:r>
            <a:br>
              <a:rPr sz="3900"/>
            </a:br>
            <a:r>
              <a:rPr b="0" lang="en-US" sz="3900" spc="-1" strike="noStrike">
                <a:solidFill>
                  <a:srgbClr val="000000"/>
                </a:solidFill>
                <a:latin typeface="Helvetica Neue"/>
              </a:rPr>
              <a:t>r(a,b) und r(a,c) impliziert b=c</a:t>
            </a:r>
            <a:endParaRPr b="0" lang="en-US" sz="39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Helvetica Neue"/>
              </a:rPr>
              <a:t>Inverse Funktionalität</a:t>
            </a:r>
            <a:br>
              <a:rPr sz="3900"/>
            </a:br>
            <a:r>
              <a:rPr b="0" lang="en-US" sz="3900" spc="-1" strike="noStrike">
                <a:solidFill>
                  <a:srgbClr val="000000"/>
                </a:solidFill>
                <a:latin typeface="Helvetica Neue"/>
              </a:rPr>
              <a:t>r(a,b) und r(c,b) impliziert a=c</a:t>
            </a:r>
            <a:endParaRPr b="0" lang="en-US" sz="39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C590D-F3B2-4C36-9ECB-42D0808E07F9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1536480" y="317520"/>
            <a:ext cx="11048760" cy="1512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Domain und Range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1777680" y="1828440"/>
            <a:ext cx="12649320" cy="8077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ObjectProperty rdf:ID="Zugehoerigkeit"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rdfs:range rdf:resource="#Organisation"/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ObjectProperty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ist gleichbedeutend mit dem Folgenden: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Class rdf:about="\&amp;owl;Thing"&gt;</a:t>
            </a:r>
            <a:endParaRPr b="0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rdfs:subClassOf&gt;</a:t>
            </a:r>
            <a:endParaRPr b="0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Restriction&gt;</a:t>
            </a:r>
            <a:endParaRPr b="0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onProperty rdf:resource="#Zugehoerigkeit"/&gt;</a:t>
            </a:r>
            <a:endParaRPr b="0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allValuesFrom rdf:resource="#Organisation"/&gt;</a:t>
            </a:r>
            <a:endParaRPr b="0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Restriction&gt;</a:t>
            </a:r>
            <a:endParaRPr b="0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rdfs:subClassOf&gt;</a:t>
            </a:r>
            <a:endParaRPr b="0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Class&gt;</a:t>
            </a:r>
            <a:endParaRPr b="0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8F48D-19A2-40FB-B2FC-73B0B0830CAC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1650960" y="355680"/>
            <a:ext cx="11049120" cy="1512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Domain und Range: Vorsicht!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1838160" y="2109960"/>
            <a:ext cx="11674800" cy="764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ObjectProperty rdf:ID="Zugehoerigkeit"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rdfs:range rdf:resource="#Organisation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ObjectProperty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Zahl rdf:ID="Fuenf"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Zugehoerigkeit rdf:resource="#Primzahlen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Zahl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Es folgt nun, dass </a:t>
            </a:r>
            <a:r>
              <a:rPr b="0" lang="en-US" sz="4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mzahlen</a:t>
            </a: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 eine Organisation ist!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253A6-C5F8-4454-8827-2E5C2A59EDE3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5" name="Rectangle 1"/>
          <p:cNvSpPr/>
          <p:nvPr/>
        </p:nvSpPr>
        <p:spPr>
          <a:xfrm>
            <a:off x="1536840" y="241200"/>
            <a:ext cx="11277360" cy="15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Rolleneigenschaften</a:t>
            </a: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6" name="Rectangle 2"/>
          <p:cNvSpPr/>
          <p:nvPr/>
        </p:nvSpPr>
        <p:spPr>
          <a:xfrm>
            <a:off x="1587600" y="2022480"/>
            <a:ext cx="10909080" cy="740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826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ObjectProperty rdf:ID="hatKollegen"&gt;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  <a:p>
            <a:pPr marL="3826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rdf:type rdf:resource="</a:t>
            </a:r>
            <a:r>
              <a:rPr b="1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&amp;owl;TransitiveProperty</a:t>
            </a: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"/&gt;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  <a:p>
            <a:pPr marL="3826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rdf:type rdf:resource="</a:t>
            </a:r>
            <a:r>
              <a:rPr b="1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&amp;owl;SymmetricProperty</a:t>
            </a: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"/&gt;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  <a:p>
            <a:pPr marL="3826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ObjectProperty&gt;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  <a:p>
            <a:pPr marL="3826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ObjectProperty rdf:ID="hatProjektleiter"&gt;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  <a:p>
            <a:pPr marL="3826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rdf:type rdf:resource="</a:t>
            </a:r>
            <a:r>
              <a:rPr b="1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&amp;owl;FunctionalProperty</a:t>
            </a: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"/&gt;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  <a:p>
            <a:pPr marL="3826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ObjectProperty&gt;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  <a:p>
            <a:pPr marL="3826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ObjectProperty rdf:ID="istProjektleiterFuer"&gt;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  <a:p>
            <a:pPr marL="3826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rdf:type rdf:resource="</a:t>
            </a:r>
            <a:r>
              <a:rPr b="1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&amp;owl;InverseFunctionalProperty</a:t>
            </a: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"/&gt;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  <a:p>
            <a:pPr marL="3826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ObjectProperty&gt;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  <a:p>
            <a:pPr marL="3826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Person rdf:ID="YorkSure"&gt;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  <a:p>
            <a:pPr marL="3826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hatKollegen rdf:resource="#PascalHitzler"/&gt;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  <a:p>
            <a:pPr marL="3826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hatKollegen rdf:resource="#AnupriyaAnkolekar"/&gt;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  <a:p>
            <a:pPr marL="3826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istProjektleiterFuer rdf:resource="#SEKT"/&gt;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  <a:p>
            <a:pPr marL="3826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Person&gt;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  <a:p>
            <a:pPr marL="3826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Projekt rdf:ID="SmartWeb"&gt;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  <a:p>
            <a:pPr marL="3826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hatProjektleiter rdf:resource="#PascalHitzler"/&gt;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  <a:p>
            <a:pPr marL="3826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hatProjektleiter rdf:resource="#HitzlerPascal"/&gt;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  <a:p>
            <a:pPr marL="3826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Projekt&gt;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cover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420C6-A076-48E6-9B87-CC6044655FB4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/>
          </p:nvPr>
        </p:nvSpPr>
        <p:spPr>
          <a:xfrm>
            <a:off x="1073160" y="1803240"/>
            <a:ext cx="11049120" cy="7950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Begriff existiert nur in der Einzahl (es gibt also keine „Ontologien“)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bezeichnet die </a:t>
            </a:r>
            <a:r>
              <a:rPr b="0" i="1" lang="en-US" sz="4200" spc="-1" strike="noStrike">
                <a:solidFill>
                  <a:srgbClr val="000000"/>
                </a:solidFill>
                <a:latin typeface="Helvetica Neue"/>
              </a:rPr>
              <a:t>„Lehre vom Sein“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zu finden bei </a:t>
            </a:r>
            <a:r>
              <a:rPr b="0" lang="en-US" sz="4200" spc="-1" strike="noStrike">
                <a:solidFill>
                  <a:srgbClr val="000000"/>
                </a:solidFill>
                <a:latin typeface="Arial"/>
                <a:ea typeface="Arial"/>
              </a:rPr>
              <a:t>Aristoteles (Sokrates), Thomas von Aquin, Descartes, Kant, Hegel, Wittgenstein, Heidegger, Quine, ...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0" name="Rectangle 2"/>
          <p:cNvSpPr/>
          <p:nvPr/>
        </p:nvSpPr>
        <p:spPr>
          <a:xfrm>
            <a:off x="1486080" y="304920"/>
            <a:ext cx="1104876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Ontologie –philosophisch</a:t>
            </a: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>
    <p:cover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F0477-3EAA-4F86-ABAE-30FF4CF59C6B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Folgerungen aus dem Beispiel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355680" y="2387160"/>
            <a:ext cx="1229184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  <a:ea typeface="Courier New"/>
              </a:rPr>
              <a:t>AnupriyaAnkolekar hatKollegen YorkSure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  <a:ea typeface="Courier New"/>
              </a:rPr>
              <a:t>AnupriyaAnkolekar hatKollegen PascalHitzler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  <a:ea typeface="Courier New"/>
              </a:rPr>
              <a:t>PascalHitzler owl:sameAs HitzlerPasca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D564C-7CDD-4CD5-8E8C-FE8377A25388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otiv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WL - Allgemeine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lassen, Rollen und Individu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lassenbeziehung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omplexe Klass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Eigenschaften von Roll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cc0006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6"/>
                </a:solidFill>
                <a:latin typeface="Helvetica Neue"/>
              </a:rPr>
              <a:t>OWL Varian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Anfragen an OWL-Ontolog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BC04B-2ADA-4923-BEE8-B6F798192B32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473120" y="444600"/>
            <a:ext cx="11049120" cy="13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OWL Variant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977760" y="2007720"/>
            <a:ext cx="11049120" cy="7745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lnSpc>
                <a:spcPct val="8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OWL Ful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Enthält OWL DL und OWL Lite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Enthält als einzige OWL-Teilsprache ganz RDFS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Semantik enthält einige Aspekte, die aus logischem Blickwinkel problematisch sind.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Unentscheidbar.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Wird durch aktuelle Softwarewerkzeuge nur bedingt unterstützt.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OWL D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Enthält OWL Lite und ist Teilsprache von OWL Full.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Entscheidbar.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Wird von aktuellen Softwarewerkzeugen fast vollständig unterstützt.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Komplexität NExpTime (worst-case).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OWL Lite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Ist Teilsprache von OWL DL und OWL Full.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Entscheidbar.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Wenig ausdrucksstark.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Komplexität ExpTime (worst-case).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0087F-BD33-4EB6-8ACC-E78084C25B84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OWL Full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8940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Helvetica Neue"/>
              </a:rPr>
              <a:t>Uneingeschränkte Nutzung aller OWL und RDFS-Sprachelemente (muss gültiges RDFS sein).</a:t>
            </a:r>
            <a:endParaRPr b="0" lang="en-US" sz="37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Helvetica Neue"/>
              </a:rPr>
              <a:t>Schwierig z.B.: nicht vorhandene Typentrennung (Klassen, Rollen, Individuen), dadurch:</a:t>
            </a:r>
            <a:endParaRPr b="0" lang="en-US" sz="37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Thing</a:t>
            </a:r>
            <a:r>
              <a:rPr b="0" lang="en-US" sz="3700" spc="-1" strike="noStrike">
                <a:solidFill>
                  <a:srgbClr val="000000"/>
                </a:solidFill>
                <a:latin typeface="Helvetica Neue"/>
              </a:rPr>
              <a:t> dasselbe wie </a:t>
            </a:r>
            <a:r>
              <a:rPr b="0" lang="en-US" sz="3700" spc="-1" strike="noStrike">
                <a:solidFill>
                  <a:srgbClr val="000000"/>
                </a:solidFill>
                <a:latin typeface="Courier New"/>
                <a:ea typeface="Courier New"/>
              </a:rPr>
              <a:t>rdfs:resource</a:t>
            </a:r>
            <a:endParaRPr b="0" lang="en-US" sz="37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Class</a:t>
            </a:r>
            <a:r>
              <a:rPr b="0" lang="en-US" sz="3700" spc="-1" strike="noStrike">
                <a:solidFill>
                  <a:srgbClr val="000000"/>
                </a:solidFill>
                <a:latin typeface="Helvetica Neue"/>
              </a:rPr>
              <a:t> dasselbe wie </a:t>
            </a:r>
            <a:r>
              <a:rPr b="0" lang="en-US" sz="3700" spc="-1" strike="noStrike">
                <a:solidFill>
                  <a:srgbClr val="000000"/>
                </a:solidFill>
                <a:latin typeface="Courier New"/>
                <a:ea typeface="Courier New"/>
              </a:rPr>
              <a:t>rdfs:Class</a:t>
            </a:r>
            <a:endParaRPr b="0" lang="en-US" sz="37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DatatypeProperty </a:t>
            </a:r>
            <a:r>
              <a:rPr b="0" lang="en-US" sz="3700" spc="-1" strike="noStrike">
                <a:solidFill>
                  <a:srgbClr val="000000"/>
                </a:solidFill>
                <a:latin typeface="Helvetica Neue"/>
              </a:rPr>
              <a:t>Subklasse von </a:t>
            </a:r>
            <a:r>
              <a:rPr b="0" lang="en-US" sz="37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ObjectProperty</a:t>
            </a:r>
            <a:endParaRPr b="0" lang="en-US" sz="37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ObjectProperty</a:t>
            </a:r>
            <a:r>
              <a:rPr b="0" lang="en-US" sz="3700" spc="-1" strike="noStrike">
                <a:solidFill>
                  <a:srgbClr val="000000"/>
                </a:solidFill>
                <a:latin typeface="Helvetica Neue"/>
              </a:rPr>
              <a:t> dasselbe wie </a:t>
            </a:r>
            <a:r>
              <a:rPr b="0" lang="en-US" sz="3700" spc="-1" strike="noStrike">
                <a:solidFill>
                  <a:srgbClr val="000000"/>
                </a:solidFill>
                <a:latin typeface="Courier New"/>
                <a:ea typeface="Courier New"/>
              </a:rPr>
              <a:t>rdf:Property</a:t>
            </a:r>
            <a:endParaRPr b="0" lang="en-US" sz="37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49EFD-4B2E-4CAC-8B0D-9DDE9355DC22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1536840" y="13932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Bodoni SvtyTwo SC ITC TT-Book"/>
              </a:rPr>
              <a:t>Beispiel für Typendurchmischung </a:t>
            </a:r>
            <a:br>
              <a:rPr sz="5200"/>
            </a:br>
            <a:r>
              <a:rPr b="0" lang="en-US" sz="5200" spc="-1" strike="noStrike">
                <a:solidFill>
                  <a:srgbClr val="000000"/>
                </a:solidFill>
                <a:latin typeface="Bodoni SvtyTwo SC ITC TT-Book"/>
              </a:rPr>
              <a:t>in OWL Full</a:t>
            </a:r>
            <a:endParaRPr b="0" lang="en-US" sz="5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160020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Class rdf:about="#Buch"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englischerName rdf:datatype="&amp;xsd;string"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book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englischerName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franzoesischerName rdf:datatype="&amp;xsd;string"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livre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franzoesischerName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Class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Inferenzen über solche Konstrukte werden oft nicht wirklich benötigt.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B3B39-AD90-4479-85DB-5E5EDE7843B8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OWL DL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marL="861840" indent="-55404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Helvetica Neue"/>
              </a:rPr>
              <a:t>Nur Verwendung von explizit erlaubten RDFS Sprachelementen (z.B. die in unseren Beispielen).</a:t>
            </a:r>
            <a:br>
              <a:rPr sz="3700"/>
            </a:br>
            <a:r>
              <a:rPr b="0" lang="en-US" sz="3700" spc="-1" strike="noStrike">
                <a:solidFill>
                  <a:srgbClr val="000000"/>
                </a:solidFill>
                <a:latin typeface="Helvetica Neue"/>
              </a:rPr>
              <a:t>Nicht erlaubt: </a:t>
            </a:r>
            <a:r>
              <a:rPr b="0" lang="en-US" sz="3700" spc="-1" strike="noStrike">
                <a:solidFill>
                  <a:srgbClr val="000000"/>
                </a:solidFill>
                <a:latin typeface="Courier New"/>
                <a:ea typeface="Courier New"/>
              </a:rPr>
              <a:t>rdfs:Class</a:t>
            </a:r>
            <a:r>
              <a:rPr b="0" lang="en-US" sz="3700" spc="-1" strike="noStrike">
                <a:solidFill>
                  <a:srgbClr val="000000"/>
                </a:solidFill>
                <a:latin typeface="Helvetica Neue"/>
              </a:rPr>
              <a:t>, </a:t>
            </a:r>
            <a:r>
              <a:rPr b="0" lang="en-US" sz="3700" spc="-1" strike="noStrike">
                <a:solidFill>
                  <a:srgbClr val="000000"/>
                </a:solidFill>
                <a:latin typeface="Courier New"/>
                <a:ea typeface="Courier New"/>
              </a:rPr>
              <a:t>rdfs:Property</a:t>
            </a:r>
            <a:endParaRPr b="0" lang="en-US" sz="3700" spc="-1" strike="noStrike">
              <a:solidFill>
                <a:srgbClr val="000000"/>
              </a:solidFill>
              <a:latin typeface="Helvetica Neue"/>
            </a:endParaRPr>
          </a:p>
          <a:p>
            <a:pPr marL="861840" indent="-55404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Helvetica Neue"/>
              </a:rPr>
              <a:t>Typentrennung. Klassen und Rollen müssen explizit deklariert werden.</a:t>
            </a:r>
            <a:endParaRPr b="0" lang="en-US" sz="3700" spc="-1" strike="noStrike">
              <a:solidFill>
                <a:srgbClr val="000000"/>
              </a:solidFill>
              <a:latin typeface="Helvetica Neue"/>
            </a:endParaRPr>
          </a:p>
          <a:p>
            <a:pPr marL="861840" indent="-55404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Helvetica Neue"/>
              </a:rPr>
              <a:t>Konkrete Rollen dürfen nicht als transitiv, symmetrisch, invers oder invers funktional deklariert werden.</a:t>
            </a:r>
            <a:endParaRPr b="0" lang="en-US" sz="3700" spc="-1" strike="noStrike">
              <a:solidFill>
                <a:srgbClr val="000000"/>
              </a:solidFill>
              <a:latin typeface="Helvetica Neue"/>
            </a:endParaRPr>
          </a:p>
          <a:p>
            <a:pPr marL="861840" indent="-55404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Helvetica Neue"/>
              </a:rPr>
              <a:t>Zahlenrestriktionen dürfen nicht mit transitiven Rollen, deren Subrollen, oder Inversen davon verwendet werden.</a:t>
            </a:r>
            <a:endParaRPr b="0" lang="en-US" sz="37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7DE00-22A4-4695-AAD6-44B5ABDDF76E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OWL Lite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alle Einschränkungen für OWL D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außerdem: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nicht erlaubt: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  <a:ea typeface="Courier New"/>
              </a:rPr>
              <a:t>oneOf, unionOf, complementOf, hasValue, disjointWith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Zahlenrestriktionen nur mit 0 und 1 erlaubt.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Einige Einschränkungen zum Auftreten von anonymen (komplexen) Klassen, z.B. nur im Subjekt von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  <a:ea typeface="Courier New"/>
              </a:rPr>
              <a:t>rdfs:subClassOf</a:t>
            </a: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4C8D3-7086-4C86-A56E-C2CC2001B729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otiv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WL - Allgemeine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lassen, Rollen und Individu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lassenbeziehung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omplexe Klass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Eigenschaften von Roll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WL Varian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cc0006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6"/>
                </a:solidFill>
                <a:latin typeface="Helvetica Neue"/>
              </a:rPr>
              <a:t>Anfragen an OWL-Ontolog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2BDFA-1146-4E33-81C8-E56A08FCFBA4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1486080" y="25200"/>
            <a:ext cx="1127736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Bodoni SvtyTwo SC ITC TT-Book"/>
              </a:rPr>
              <a:t>Terminologische Anfragen an OWL </a:t>
            </a:r>
            <a:br>
              <a:rPr sz="5500"/>
            </a:br>
            <a:r>
              <a:rPr b="0" lang="en-US" sz="5500" spc="-1" strike="noStrike">
                <a:solidFill>
                  <a:srgbClr val="000000"/>
                </a:solidFill>
                <a:latin typeface="Bodoni SvtyTwo SC ITC TT-Book"/>
              </a:rPr>
              <a:t>(nur Klassen und Rollen)</a:t>
            </a:r>
            <a:endParaRPr b="0" lang="en-US" sz="55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977760" y="2387160"/>
            <a:ext cx="1156824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8000"/>
          </a:bodyPr>
          <a:p>
            <a:pPr marL="870840" indent="-55980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Klassenäquivalenz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870840" indent="-55980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Subklassenbeziehung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870840" indent="-55980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Disjunktheit von Klassen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870840" indent="-55980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globale Konsistenz (Erfüllbarkeit, Widerspruchsfreiheit)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870840" indent="-55980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Klassenkonsistenz: Eine Klasse ist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inkonsistent</a:t>
            </a: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, wenn sie äquivalent zu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Nothing</a:t>
            </a: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 ist - dies deutet oft auf einen Modellierungsfehler hin: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lvl="1" marL="1092240"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lvl="1" marL="10922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Class rdf:about="#Buch"&gt;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lvl="1" marL="10922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subClassOf rdf:resource="#Publikation"/&gt;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lvl="1" marL="10922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disjointWith rdf:resource="#Publikation"/&gt;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lvl="1" marL="10922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Class&gt;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08AAB-C033-4B77-ADC1-3B188E07DFDD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1536840" y="12600"/>
            <a:ext cx="11277360" cy="1765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Bodoni SvtyTwo SC ITC TT-Book"/>
              </a:rPr>
              <a:t>Assertionale Anfragen an OWL </a:t>
            </a:r>
            <a:br>
              <a:rPr sz="5500"/>
            </a:br>
            <a:r>
              <a:rPr b="0" lang="en-US" sz="5500" spc="-1" strike="noStrike">
                <a:solidFill>
                  <a:srgbClr val="000000"/>
                </a:solidFill>
                <a:latin typeface="Bodoni SvtyTwo SC ITC TT-Book"/>
              </a:rPr>
              <a:t>(mit Individuen)</a:t>
            </a:r>
            <a:endParaRPr b="0" lang="en-US" sz="55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1270080" y="2018880"/>
            <a:ext cx="11531520" cy="772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Helvetica Neue"/>
              </a:rPr>
              <a:t>Instanzüberprüfung: Gehört gegebenes Individuum zu gegebener Klasse?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Helvetica Neue"/>
              </a:rPr>
              <a:t>Suche nach allen Individuen, die in einer Klasse enthalten sind.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Helvetica Neue"/>
              </a:rPr>
              <a:t>Werden zwei gegebene Individuen durch Rolle verknüpft?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Helvetica Neue"/>
              </a:rPr>
              <a:t>Suche nach allen Individuenpaaren, die durch eine Rolle verknüpft sind.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Helvetica Neue"/>
              </a:rPr>
              <a:t>...Vorsicht: es wird nur nach „beweisbaren“ Antworten gesucht!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3AB6A-55D4-4CCB-8B04-8AD2A0A0E16B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485720" y="304920"/>
            <a:ext cx="11048760" cy="1409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Ontologie – informatisch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279360" y="2146320"/>
            <a:ext cx="11049120" cy="7696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446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Gruber (1993):</a:t>
            </a:r>
            <a:br>
              <a:rPr sz="4200"/>
            </a:b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„</a:t>
            </a: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An Ontology is a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	</a:t>
            </a:r>
            <a:r>
              <a:rPr b="0" lang="en-US" sz="4200" spc="-1" strike="noStrike">
                <a:solidFill>
                  <a:srgbClr val="006600"/>
                </a:solidFill>
                <a:latin typeface="Helvetica Neue"/>
              </a:rPr>
              <a:t>formal specific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	</a:t>
            </a: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f a </a:t>
            </a:r>
            <a:r>
              <a:rPr b="0" lang="en-US" sz="4200" spc="-1" strike="noStrike">
                <a:solidFill>
                  <a:srgbClr val="006600"/>
                </a:solidFill>
                <a:latin typeface="Helvetica Neue"/>
              </a:rPr>
              <a:t>shared</a:t>
            </a: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 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	</a:t>
            </a:r>
            <a:r>
              <a:rPr b="0" lang="en-US" sz="4200" spc="-1" strike="noStrike">
                <a:solidFill>
                  <a:srgbClr val="006600"/>
                </a:solidFill>
                <a:latin typeface="Helvetica Neue"/>
              </a:rPr>
              <a:t>conceptualiz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	</a:t>
            </a: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f a </a:t>
            </a:r>
            <a:r>
              <a:rPr b="0" lang="en-US" sz="4200" spc="-1" strike="noStrike">
                <a:solidFill>
                  <a:srgbClr val="006600"/>
                </a:solidFill>
                <a:latin typeface="Helvetica Neue"/>
              </a:rPr>
              <a:t>domain</a:t>
            </a: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 of interest“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	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4" name="Rectangle 3"/>
          <p:cNvSpPr/>
          <p:nvPr/>
        </p:nvSpPr>
        <p:spPr>
          <a:xfrm>
            <a:off x="6321600" y="4506840"/>
            <a:ext cx="6680160" cy="37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9600">
              <a:lnSpc>
                <a:spcPct val="100000"/>
              </a:lnSpc>
              <a:spcBef>
                <a:spcPts val="2599"/>
              </a:spcBef>
              <a:buClr>
                <a:srgbClr val="000000"/>
              </a:buClr>
              <a:buFont typeface="Symbol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maschinell interpretierbar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marL="39600">
              <a:lnSpc>
                <a:spcPct val="100000"/>
              </a:lnSpc>
              <a:spcBef>
                <a:spcPts val="2599"/>
              </a:spcBef>
              <a:buClr>
                <a:srgbClr val="000000"/>
              </a:buClr>
              <a:buFont typeface="Symbol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beruht auf Konsens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marL="39600">
              <a:lnSpc>
                <a:spcPct val="100000"/>
              </a:lnSpc>
              <a:spcBef>
                <a:spcPts val="2599"/>
              </a:spcBef>
              <a:buClr>
                <a:srgbClr val="000000"/>
              </a:buClr>
              <a:buFont typeface="Symbol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beschreibt Begrifflichkeiten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marL="39600">
              <a:lnSpc>
                <a:spcPct val="100000"/>
              </a:lnSpc>
              <a:spcBef>
                <a:spcPts val="2599"/>
              </a:spcBef>
              <a:buClr>
                <a:srgbClr val="000000"/>
              </a:buClr>
              <a:buFont typeface="Symbol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bezogen auf ein „Thema“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    (Gegenstandsbereich)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cover dir="r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16357-B1FB-4539-93FD-BA28DED7C5C4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OWL Werkzeuge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1359000" y="2082960"/>
            <a:ext cx="12191760" cy="8089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Helvetica Neue"/>
              </a:rPr>
              <a:t>Editoren</a:t>
            </a:r>
            <a:endParaRPr b="0" lang="en-US" sz="29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Helvetica Neue"/>
              </a:rPr>
              <a:t>Protegé, http://protege.stanford.edu</a:t>
            </a:r>
            <a:endParaRPr b="0" lang="en-US" sz="29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Helvetica Neue"/>
              </a:rPr>
              <a:t>SWOOP, http://www.mindswap.org/2004/SWOOP/</a:t>
            </a:r>
            <a:endParaRPr b="0" lang="en-US" sz="29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Helvetica Neue"/>
              </a:rPr>
              <a:t>OWL Tools, http://owltools.ontoware.org/</a:t>
            </a:r>
            <a:endParaRPr b="0" lang="en-US" sz="29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Helvetica Neue"/>
              </a:rPr>
              <a:t>Inferenzmaschinen</a:t>
            </a:r>
            <a:endParaRPr b="0" lang="en-US" sz="29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Helvetica Neue"/>
              </a:rPr>
              <a:t>Pellet, http://www.mindswap.org/2003/pellet/index.shtml</a:t>
            </a:r>
            <a:endParaRPr b="0" lang="en-US" sz="29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Helvetica Neue"/>
              </a:rPr>
              <a:t>KAON2, http://kaon2.semanticweb.org</a:t>
            </a:r>
            <a:endParaRPr b="0" lang="en-US" sz="29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Helvetica Neue"/>
              </a:rPr>
              <a:t>FACT++, http://owl.man.ac.uk/factplusplus/</a:t>
            </a:r>
            <a:endParaRPr b="0" lang="en-US" sz="29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Helvetica Neue"/>
              </a:rPr>
              <a:t>Racer, http://www.racer-systems.com/</a:t>
            </a:r>
            <a:endParaRPr b="0" lang="en-US" sz="29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Helvetica Neue"/>
              </a:rPr>
              <a:t>Cerebra, http://www.cerebra.com/index.html</a:t>
            </a:r>
            <a:endParaRPr b="0" lang="en-US" sz="29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40" name="Text Box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A6256-8E15-45DE-9BD1-6AE6C6D8357C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cover dir="r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A184A-DB25-46AA-BEA9-3D64AFEBA54E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2" name="PlaceHolder 1"/>
          <p:cNvSpPr>
            <a:spLocks noGrp="1"/>
          </p:cNvSpPr>
          <p:nvPr>
            <p:ph/>
          </p:nvPr>
        </p:nvSpPr>
        <p:spPr>
          <a:xfrm>
            <a:off x="355320" y="2315880"/>
            <a:ext cx="6553080" cy="7437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44680" indent="-48744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Kopf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dfs:comment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dfs:label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dfs:seeAlso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dfs:isDefinedBy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versionInfo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priorVersion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backwardCompatibleWith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incompatibleWith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DeprecatedClass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DeprecatedProperty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imports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43" name="Rectangle 2"/>
          <p:cNvSpPr/>
          <p:nvPr/>
        </p:nvSpPr>
        <p:spPr>
          <a:xfrm>
            <a:off x="6707160" y="2109960"/>
            <a:ext cx="5423040" cy="56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544680" indent="-5446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eziehungen zwischen Individue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4680" indent="-5446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sameA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4680" indent="-5446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differentFrom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4680" indent="-5446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AllDifferen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zusammen mit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owl:distinctMe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4680" indent="-5446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4680" indent="-5446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4680" indent="-5446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Vorgeschriebene Datentype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4680" indent="-5446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xsd:strong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4680" indent="-5446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xsd:integer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4" name="Rectangle 3"/>
          <p:cNvSpPr/>
          <p:nvPr/>
        </p:nvSpPr>
        <p:spPr>
          <a:xfrm>
            <a:off x="1536840" y="241200"/>
            <a:ext cx="11277360" cy="15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OWL Sprachelemente</a:t>
            </a: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cover dir="r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7A826-04F4-4D76-915E-3569B0A44E87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OWL Sprachelemente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977760" y="2387160"/>
            <a:ext cx="542304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44680" indent="-48744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Klassenkonstruktoren und -beziehungen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Class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Thing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Nothing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dfs:subClassOf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disjointWith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equivalentClass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intersectionOf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unionOf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complementOf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48" name="Rectangle 3"/>
          <p:cNvSpPr/>
          <p:nvPr/>
        </p:nvSpPr>
        <p:spPr>
          <a:xfrm>
            <a:off x="6616800" y="2387520"/>
            <a:ext cx="5422680" cy="38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544680" indent="-5446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ollenrestriktione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4680" indent="-5446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allValuesFrom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4680" indent="-5446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someValuesFrom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4680" indent="-5446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hasValu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4680" indent="-5446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cardinality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4680" indent="-5446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minCardinality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4680" indent="-5446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maxCardinality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4680" indent="-5446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oneOf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cover dir="r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7CF4D-6140-49E8-80DB-5E3B2DC18AFB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0" name="PlaceHolder 1"/>
          <p:cNvSpPr>
            <a:spLocks noGrp="1"/>
          </p:cNvSpPr>
          <p:nvPr>
            <p:ph/>
          </p:nvPr>
        </p:nvSpPr>
        <p:spPr>
          <a:xfrm>
            <a:off x="665280" y="2214360"/>
            <a:ext cx="11672640" cy="7538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44680" indent="-48744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ollenkonstruktoren, -beziehungen und -eigenschaf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ObjectProperty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DatatypeProperty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dfs:subPropertyOf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equivalentProperty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inverseOf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dfs:domain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dfs:range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df:resource=“&amp;owl;TransitiveProperty“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df:resource=“&amp;owl;SymmetricProperty“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df:resource=“&amp;owl;FunctionalProperty“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df:resource=“&amp;owl;InverseFunctionalProperty“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51" name="Rectangle 2"/>
          <p:cNvSpPr/>
          <p:nvPr/>
        </p:nvSpPr>
        <p:spPr>
          <a:xfrm>
            <a:off x="1536840" y="241200"/>
            <a:ext cx="11277360" cy="15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OWL Sprachelemente</a:t>
            </a: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cover dir="r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DA809-3A19-4E11-9084-9FFF7E6EF619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Weiterführende Literatur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977400" y="2387160"/>
            <a:ext cx="1177308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82680" indent="-343080">
              <a:lnSpc>
                <a:spcPct val="80000"/>
              </a:lnSpc>
              <a:spcBef>
                <a:spcPts val="24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ttp://www.w3.org/2004/OWL/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zentrale W3C Webseite für OWL.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80000"/>
              </a:lnSpc>
              <a:spcBef>
                <a:spcPts val="24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ttp://www.w3.org/TR/owl-features/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Überblick über OWL.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80000"/>
              </a:lnSpc>
              <a:spcBef>
                <a:spcPts val="24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ttp://www.w3.org/TR/owl-ref/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vollständige Beschreibung der OWL-Sprachkomponenten.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80000"/>
              </a:lnSpc>
              <a:spcBef>
                <a:spcPts val="24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ttp://www.w3.org/TR/owl-guide/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zeigt, wie OWL zur Wissensmodellierung verwendet werden kann.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80000"/>
              </a:lnSpc>
              <a:spcBef>
                <a:spcPts val="24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ttp://www.w3.org/TR/owl-semantics/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beschreibt die Semantik von OWL, die wir auf andere Weise später behandeln werden. Es beschreibt außerdem die abstrakte Syntax für OWL DL, die wir hier später noch ansprechen.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8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Deutsche Übersetzungen mancher W3C Dokumente findet man unter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ttp://www.w3.org/2005/11/Translations/Lists/ListLang-de.html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56D09-7563-42AF-9775-12DB7C9C2E76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511280" y="-318960"/>
            <a:ext cx="11049120" cy="205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Bodoni SvtyTwo SC ITC TT-Book"/>
              </a:rPr>
              <a:t>Ontologie – praktisch</a:t>
            </a:r>
            <a:br>
              <a:rPr sz="5600"/>
            </a:br>
            <a:r>
              <a:rPr b="0" lang="en-US" sz="5600" spc="-1" strike="noStrike">
                <a:solidFill>
                  <a:srgbClr val="000000"/>
                </a:solidFill>
                <a:latin typeface="Bodoni SvtyTwo SC ITC TT-Book"/>
              </a:rPr>
              <a:t>Einige Anforderungen</a:t>
            </a:r>
            <a:endParaRPr b="0" lang="en-US" sz="56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270080" y="2018880"/>
            <a:ext cx="11531520" cy="990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Instanziierung von Klassen durch Individuen</a:t>
            </a: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Begriffshierarchien (Taxonomien, „Vererbung“): </a:t>
            </a:r>
            <a:br>
              <a:rPr sz="3500"/>
            </a:b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Klassen, Begriffe</a:t>
            </a: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binäre Relationen zwischen Individuen: Properties, Roles</a:t>
            </a: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Eigenschaften von Relationen (z.B. range, transitive)</a:t>
            </a: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Datentypen (z.B. Zahlen): concrete domains</a:t>
            </a: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logische Ausdrucksmittel</a:t>
            </a: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klare Semantik!</a:t>
            </a: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477AE-95A8-463A-BE75-070C9EE63764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389" name="Group 1"/>
          <p:cNvGrpSpPr/>
          <p:nvPr/>
        </p:nvGrpSpPr>
        <p:grpSpPr>
          <a:xfrm>
            <a:off x="190440" y="4241880"/>
            <a:ext cx="1625760" cy="546120"/>
            <a:chOff x="190440" y="4241880"/>
            <a:chExt cx="1625760" cy="546120"/>
          </a:xfrm>
        </p:grpSpPr>
        <p:sp>
          <p:nvSpPr>
            <p:cNvPr id="390" name="Oval 2"/>
            <p:cNvSpPr/>
            <p:nvPr/>
          </p:nvSpPr>
          <p:spPr>
            <a:xfrm>
              <a:off x="190440" y="4241880"/>
              <a:ext cx="1625760" cy="546120"/>
            </a:xfrm>
            <a:prstGeom prst="ellipse">
              <a:avLst/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91" name="Rectangle 3"/>
            <p:cNvSpPr/>
            <p:nvPr/>
          </p:nvSpPr>
          <p:spPr>
            <a:xfrm>
              <a:off x="416520" y="4348800"/>
              <a:ext cx="117864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5040" tIns="38160" bIns="38160" anchor="ctr">
              <a:spAutoFit/>
            </a:bodyPr>
            <a:p>
              <a:pPr marL="176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x:Professor</a:t>
              </a:r>
              <a:endParaRPr b="0" lang="en-US" sz="16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392" name="Group 4"/>
          <p:cNvGrpSpPr/>
          <p:nvPr/>
        </p:nvGrpSpPr>
        <p:grpSpPr>
          <a:xfrm>
            <a:off x="1282680" y="3048120"/>
            <a:ext cx="1625760" cy="546120"/>
            <a:chOff x="1282680" y="3048120"/>
            <a:chExt cx="1625760" cy="546120"/>
          </a:xfrm>
        </p:grpSpPr>
        <p:sp>
          <p:nvSpPr>
            <p:cNvPr id="393" name="Oval 5"/>
            <p:cNvSpPr/>
            <p:nvPr/>
          </p:nvSpPr>
          <p:spPr>
            <a:xfrm>
              <a:off x="1282680" y="3048120"/>
              <a:ext cx="1625760" cy="546120"/>
            </a:xfrm>
            <a:prstGeom prst="ellipse">
              <a:avLst/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94" name="Rectangle 6"/>
            <p:cNvSpPr/>
            <p:nvPr/>
          </p:nvSpPr>
          <p:spPr>
            <a:xfrm>
              <a:off x="1481400" y="3155040"/>
              <a:ext cx="121392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5040" tIns="38160" bIns="38160" anchor="ctr">
              <a:spAutoFit/>
            </a:bodyPr>
            <a:p>
              <a:pPr marL="176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x:Employee</a:t>
              </a:r>
              <a:endParaRPr b="0" lang="en-US" sz="16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395" name="Group 7"/>
          <p:cNvGrpSpPr/>
          <p:nvPr/>
        </p:nvGrpSpPr>
        <p:grpSpPr>
          <a:xfrm>
            <a:off x="5931000" y="4013280"/>
            <a:ext cx="1625400" cy="546120"/>
            <a:chOff x="5931000" y="4013280"/>
            <a:chExt cx="1625400" cy="546120"/>
          </a:xfrm>
        </p:grpSpPr>
        <p:sp>
          <p:nvSpPr>
            <p:cNvPr id="396" name="Oval 8"/>
            <p:cNvSpPr/>
            <p:nvPr/>
          </p:nvSpPr>
          <p:spPr>
            <a:xfrm>
              <a:off x="5931000" y="4013280"/>
              <a:ext cx="1625400" cy="546120"/>
            </a:xfrm>
            <a:prstGeom prst="ellipse">
              <a:avLst/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97" name="Rectangle 9"/>
            <p:cNvSpPr/>
            <p:nvPr/>
          </p:nvSpPr>
          <p:spPr>
            <a:xfrm>
              <a:off x="6012360" y="4132800"/>
              <a:ext cx="147132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5040" tIns="38160" bIns="38160" anchor="ctr">
              <a:spAutoFit/>
            </a:bodyPr>
            <a:p>
              <a:pPr marL="176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x:PhD-Student</a:t>
              </a:r>
              <a:endParaRPr b="0" lang="en-US" sz="16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398" name="Group 10"/>
          <p:cNvGrpSpPr/>
          <p:nvPr/>
        </p:nvGrpSpPr>
        <p:grpSpPr>
          <a:xfrm>
            <a:off x="4203720" y="3048120"/>
            <a:ext cx="1625760" cy="546120"/>
            <a:chOff x="4203720" y="3048120"/>
            <a:chExt cx="1625760" cy="546120"/>
          </a:xfrm>
        </p:grpSpPr>
        <p:sp>
          <p:nvSpPr>
            <p:cNvPr id="399" name="Oval 11"/>
            <p:cNvSpPr/>
            <p:nvPr/>
          </p:nvSpPr>
          <p:spPr>
            <a:xfrm>
              <a:off x="4203720" y="3048120"/>
              <a:ext cx="1625760" cy="546120"/>
            </a:xfrm>
            <a:prstGeom prst="ellipse">
              <a:avLst/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00" name="Rectangle 12"/>
            <p:cNvSpPr/>
            <p:nvPr/>
          </p:nvSpPr>
          <p:spPr>
            <a:xfrm>
              <a:off x="4510440" y="3155040"/>
              <a:ext cx="100944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5040" tIns="38160" bIns="38160" anchor="ctr">
              <a:spAutoFit/>
            </a:bodyPr>
            <a:p>
              <a:pPr marL="176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x:Student</a:t>
              </a:r>
              <a:endParaRPr b="0" lang="en-US" sz="16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401" name="Group 13"/>
          <p:cNvGrpSpPr/>
          <p:nvPr/>
        </p:nvGrpSpPr>
        <p:grpSpPr>
          <a:xfrm>
            <a:off x="2577960" y="3911760"/>
            <a:ext cx="1625760" cy="546120"/>
            <a:chOff x="2577960" y="3911760"/>
            <a:chExt cx="1625760" cy="546120"/>
          </a:xfrm>
        </p:grpSpPr>
        <p:sp>
          <p:nvSpPr>
            <p:cNvPr id="402" name="Oval 14"/>
            <p:cNvSpPr/>
            <p:nvPr/>
          </p:nvSpPr>
          <p:spPr>
            <a:xfrm>
              <a:off x="2577960" y="3911760"/>
              <a:ext cx="1625760" cy="546120"/>
            </a:xfrm>
            <a:prstGeom prst="ellipse">
              <a:avLst/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03" name="Rectangle 15"/>
            <p:cNvSpPr/>
            <p:nvPr/>
          </p:nvSpPr>
          <p:spPr>
            <a:xfrm>
              <a:off x="2998080" y="4018680"/>
              <a:ext cx="78264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5040" tIns="38160" bIns="38160" anchor="ctr">
              <a:spAutoFit/>
            </a:bodyPr>
            <a:p>
              <a:pPr marL="176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x:Tutor</a:t>
              </a:r>
              <a:endParaRPr b="0" lang="en-US" sz="16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404" name="Group 16"/>
          <p:cNvGrpSpPr/>
          <p:nvPr/>
        </p:nvGrpSpPr>
        <p:grpSpPr>
          <a:xfrm>
            <a:off x="2577960" y="1955880"/>
            <a:ext cx="1625760" cy="546120"/>
            <a:chOff x="2577960" y="1955880"/>
            <a:chExt cx="1625760" cy="546120"/>
          </a:xfrm>
        </p:grpSpPr>
        <p:sp>
          <p:nvSpPr>
            <p:cNvPr id="405" name="Oval 17"/>
            <p:cNvSpPr/>
            <p:nvPr/>
          </p:nvSpPr>
          <p:spPr>
            <a:xfrm>
              <a:off x="2577960" y="1955880"/>
              <a:ext cx="1625760" cy="546120"/>
            </a:xfrm>
            <a:prstGeom prst="ellipse">
              <a:avLst/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06" name="Rectangle 18"/>
            <p:cNvSpPr/>
            <p:nvPr/>
          </p:nvSpPr>
          <p:spPr>
            <a:xfrm>
              <a:off x="2861640" y="2062800"/>
              <a:ext cx="105516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5040" tIns="38160" bIns="38160" anchor="ctr">
              <a:spAutoFit/>
            </a:bodyPr>
            <a:p>
              <a:pPr marL="176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rdfs:Class</a:t>
              </a:r>
              <a:endParaRPr b="0" lang="en-US" sz="16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407" name="AutoShape 19"/>
          <p:cNvSpPr/>
          <p:nvPr/>
        </p:nvSpPr>
        <p:spPr>
          <a:xfrm flipH="1" rot="10800000">
            <a:off x="1002240" y="3525840"/>
            <a:ext cx="507960" cy="68904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8" name="AutoShape 20"/>
          <p:cNvSpPr/>
          <p:nvPr/>
        </p:nvSpPr>
        <p:spPr>
          <a:xfrm rot="10800000">
            <a:off x="2664000" y="3525840"/>
            <a:ext cx="149040" cy="442800"/>
          </a:xfrm>
          <a:prstGeom prst="pie">
            <a:avLst/>
          </a:prstGeom>
          <a:blipFill rotWithShape="0">
            <a:blip r:embed="rId2"/>
            <a:srcRect/>
            <a:tile tx="0" ty="0" sx="100000" sy="100000" algn="ctr"/>
          </a:blipFill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9" name="AutoShape 21"/>
          <p:cNvSpPr/>
          <p:nvPr/>
        </p:nvSpPr>
        <p:spPr>
          <a:xfrm flipH="1" rot="10800000">
            <a:off x="3964320" y="3525840"/>
            <a:ext cx="473400" cy="442800"/>
          </a:xfrm>
          <a:prstGeom prst="pie">
            <a:avLst/>
          </a:prstGeom>
          <a:blipFill rotWithShape="0">
            <a:blip r:embed="rId3"/>
            <a:srcRect/>
            <a:tile tx="0" ty="0" sx="100000" sy="100000" algn="ctr"/>
          </a:blipFill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0" name="AutoShape 22"/>
          <p:cNvSpPr/>
          <p:nvPr/>
        </p:nvSpPr>
        <p:spPr>
          <a:xfrm rot="10800000">
            <a:off x="5591160" y="3525840"/>
            <a:ext cx="582480" cy="550800"/>
          </a:xfrm>
          <a:prstGeom prst="pie">
            <a:avLst/>
          </a:prstGeom>
          <a:blipFill rotWithShape="0">
            <a:blip r:embed="rId4"/>
            <a:srcRect/>
            <a:tile tx="0" ty="0" sx="100000" sy="100000" algn="ctr"/>
          </a:blipFill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1" name="AutoShape 23"/>
          <p:cNvSpPr/>
          <p:nvPr/>
        </p:nvSpPr>
        <p:spPr>
          <a:xfrm flipH="1" rot="5400000">
            <a:off x="4849560" y="1605960"/>
            <a:ext cx="1847880" cy="3101760"/>
          </a:xfrm>
          <a:prstGeom prst="pie">
            <a:avLst/>
          </a:prstGeom>
          <a:noFill/>
          <a:ln w="255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2" name="AutoShape 24"/>
          <p:cNvSpPr/>
          <p:nvPr/>
        </p:nvSpPr>
        <p:spPr>
          <a:xfrm rot="16200000">
            <a:off x="459360" y="2202120"/>
            <a:ext cx="2063880" cy="2125440"/>
          </a:xfrm>
          <a:prstGeom prst="pie">
            <a:avLst/>
          </a:prstGeom>
          <a:noFill/>
          <a:ln w="255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3" name="Line 25"/>
          <p:cNvSpPr/>
          <p:nvPr/>
        </p:nvSpPr>
        <p:spPr>
          <a:xfrm flipV="1">
            <a:off x="3390120" y="2520720"/>
            <a:ext cx="1800" cy="136836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414" name="Group 26"/>
          <p:cNvGrpSpPr/>
          <p:nvPr/>
        </p:nvGrpSpPr>
        <p:grpSpPr>
          <a:xfrm>
            <a:off x="190440" y="5207040"/>
            <a:ext cx="1625760" cy="546120"/>
            <a:chOff x="190440" y="5207040"/>
            <a:chExt cx="1625760" cy="546120"/>
          </a:xfrm>
        </p:grpSpPr>
        <p:sp>
          <p:nvSpPr>
            <p:cNvPr id="415" name="Oval 27"/>
            <p:cNvSpPr/>
            <p:nvPr/>
          </p:nvSpPr>
          <p:spPr>
            <a:xfrm>
              <a:off x="190440" y="5207040"/>
              <a:ext cx="1625760" cy="5461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16" name="Rectangle 28"/>
            <p:cNvSpPr/>
            <p:nvPr/>
          </p:nvSpPr>
          <p:spPr>
            <a:xfrm>
              <a:off x="641160" y="5313960"/>
              <a:ext cx="72756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5040" tIns="38160" bIns="38160" anchor="ctr">
              <a:spAutoFit/>
            </a:bodyPr>
            <a:p>
              <a:pPr marL="176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x:Rudi</a:t>
              </a:r>
              <a:endParaRPr b="0" lang="en-US" sz="16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417" name="Group 29"/>
          <p:cNvGrpSpPr/>
          <p:nvPr/>
        </p:nvGrpSpPr>
        <p:grpSpPr>
          <a:xfrm>
            <a:off x="5397480" y="5207040"/>
            <a:ext cx="1625760" cy="546120"/>
            <a:chOff x="5397480" y="5207040"/>
            <a:chExt cx="1625760" cy="546120"/>
          </a:xfrm>
        </p:grpSpPr>
        <p:sp>
          <p:nvSpPr>
            <p:cNvPr id="418" name="Oval 30"/>
            <p:cNvSpPr/>
            <p:nvPr/>
          </p:nvSpPr>
          <p:spPr>
            <a:xfrm>
              <a:off x="5397480" y="5207040"/>
              <a:ext cx="1625760" cy="5461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19" name="Rectangle 31"/>
            <p:cNvSpPr/>
            <p:nvPr/>
          </p:nvSpPr>
          <p:spPr>
            <a:xfrm>
              <a:off x="5763960" y="5313960"/>
              <a:ext cx="88596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5040" tIns="38160" bIns="38160" anchor="ctr">
              <a:spAutoFit/>
            </a:bodyPr>
            <a:p>
              <a:pPr marL="176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x:Daniel</a:t>
              </a:r>
              <a:endParaRPr b="0" lang="en-US" sz="16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420" name="Group 32"/>
          <p:cNvGrpSpPr/>
          <p:nvPr/>
        </p:nvGrpSpPr>
        <p:grpSpPr>
          <a:xfrm>
            <a:off x="2362320" y="5207040"/>
            <a:ext cx="1625400" cy="546120"/>
            <a:chOff x="2362320" y="5207040"/>
            <a:chExt cx="1625400" cy="546120"/>
          </a:xfrm>
        </p:grpSpPr>
        <p:sp>
          <p:nvSpPr>
            <p:cNvPr id="421" name="Oval 33"/>
            <p:cNvSpPr/>
            <p:nvPr/>
          </p:nvSpPr>
          <p:spPr>
            <a:xfrm>
              <a:off x="2362320" y="5207040"/>
              <a:ext cx="1625400" cy="5461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22" name="Rectangle 34"/>
            <p:cNvSpPr/>
            <p:nvPr/>
          </p:nvSpPr>
          <p:spPr>
            <a:xfrm>
              <a:off x="2639160" y="5313960"/>
              <a:ext cx="106596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5040" tIns="38160" bIns="38160" anchor="ctr">
              <a:spAutoFit/>
            </a:bodyPr>
            <a:p>
              <a:pPr marL="176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x:Raphael</a:t>
              </a:r>
              <a:endParaRPr b="0" lang="en-US" sz="16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423" name="AutoShape 35"/>
          <p:cNvSpPr/>
          <p:nvPr/>
        </p:nvSpPr>
        <p:spPr>
          <a:xfrm rot="10800000">
            <a:off x="2095200" y="3605040"/>
            <a:ext cx="507960" cy="1663920"/>
          </a:xfrm>
          <a:prstGeom prst="pie">
            <a:avLst/>
          </a:prstGeom>
          <a:blipFill rotWithShape="0">
            <a:blip r:embed="rId5"/>
            <a:srcRect/>
            <a:tile tx="0" ty="0" sx="100000" sy="100000" algn="ctr"/>
          </a:blipFill>
          <a:ln w="255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4" name="Line 36"/>
          <p:cNvSpPr/>
          <p:nvPr/>
        </p:nvSpPr>
        <p:spPr>
          <a:xfrm flipV="1">
            <a:off x="1003320" y="4797000"/>
            <a:ext cx="1440" cy="39204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5" name="AutoShape 37"/>
          <p:cNvSpPr/>
          <p:nvPr/>
        </p:nvSpPr>
        <p:spPr>
          <a:xfrm rot="10800000">
            <a:off x="5016240" y="3605040"/>
            <a:ext cx="615960" cy="1663920"/>
          </a:xfrm>
          <a:prstGeom prst="pie">
            <a:avLst/>
          </a:prstGeom>
          <a:blipFill rotWithShape="0">
            <a:blip r:embed="rId6"/>
            <a:srcRect/>
            <a:tile tx="0" ty="0" sx="100000" sy="100000" algn="ctr"/>
          </a:blipFill>
          <a:ln w="255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6" name="AutoShape 38"/>
          <p:cNvSpPr/>
          <p:nvPr/>
        </p:nvSpPr>
        <p:spPr>
          <a:xfrm rot="16200000">
            <a:off x="4575960" y="3672720"/>
            <a:ext cx="768240" cy="2424240"/>
          </a:xfrm>
          <a:prstGeom prst="pie">
            <a:avLst/>
          </a:prstGeom>
          <a:noFill/>
          <a:ln w="255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7" name="AutoShape 39"/>
          <p:cNvSpPr/>
          <p:nvPr/>
        </p:nvSpPr>
        <p:spPr>
          <a:xfrm flipH="1" rot="10800000">
            <a:off x="2094480" y="2442960"/>
            <a:ext cx="723960" cy="579240"/>
          </a:xfrm>
          <a:prstGeom prst="pie">
            <a:avLst/>
          </a:prstGeom>
          <a:blipFill rotWithShape="0">
            <a:blip r:embed="rId7"/>
            <a:srcRect/>
            <a:tile tx="0" ty="0" sx="100000" sy="100000" algn="ctr"/>
          </a:blipFill>
          <a:ln w="255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8" name="AutoShape 40"/>
          <p:cNvSpPr/>
          <p:nvPr/>
        </p:nvSpPr>
        <p:spPr>
          <a:xfrm rot="10800000">
            <a:off x="3965040" y="2442960"/>
            <a:ext cx="1049400" cy="579240"/>
          </a:xfrm>
          <a:prstGeom prst="pie">
            <a:avLst/>
          </a:prstGeom>
          <a:blipFill rotWithShape="0">
            <a:blip r:embed="rId8"/>
            <a:srcRect/>
            <a:tile tx="0" ty="0" sx="100000" sy="100000" algn="ctr"/>
          </a:blipFill>
          <a:ln w="255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9" name="Line 41"/>
          <p:cNvSpPr/>
          <p:nvPr/>
        </p:nvSpPr>
        <p:spPr>
          <a:xfrm flipV="1">
            <a:off x="8115480" y="3250800"/>
            <a:ext cx="1440" cy="544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0" name="Line 42"/>
          <p:cNvSpPr/>
          <p:nvPr/>
        </p:nvSpPr>
        <p:spPr>
          <a:xfrm flipV="1">
            <a:off x="8115480" y="3898440"/>
            <a:ext cx="1440" cy="54468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1" name="Rectangle 43"/>
          <p:cNvSpPr/>
          <p:nvPr/>
        </p:nvSpPr>
        <p:spPr>
          <a:xfrm>
            <a:off x="8190000" y="3338640"/>
            <a:ext cx="12258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subClass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2" name="Rectangle 44"/>
          <p:cNvSpPr/>
          <p:nvPr/>
        </p:nvSpPr>
        <p:spPr>
          <a:xfrm>
            <a:off x="8184600" y="4076640"/>
            <a:ext cx="18950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Instanziierung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3" name="Rectangle 45"/>
          <p:cNvSpPr/>
          <p:nvPr/>
        </p:nvSpPr>
        <p:spPr>
          <a:xfrm>
            <a:off x="6885000" y="2247840"/>
            <a:ext cx="19087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Klassen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434" name="Group 46"/>
          <p:cNvGrpSpPr/>
          <p:nvPr/>
        </p:nvGrpSpPr>
        <p:grpSpPr>
          <a:xfrm>
            <a:off x="5219640" y="6464160"/>
            <a:ext cx="1955880" cy="546120"/>
            <a:chOff x="5219640" y="6464160"/>
            <a:chExt cx="1955880" cy="546120"/>
          </a:xfrm>
        </p:grpSpPr>
        <p:sp>
          <p:nvSpPr>
            <p:cNvPr id="435" name="Oval 47"/>
            <p:cNvSpPr/>
            <p:nvPr/>
          </p:nvSpPr>
          <p:spPr>
            <a:xfrm>
              <a:off x="5219640" y="6464160"/>
              <a:ext cx="1955880" cy="546120"/>
            </a:xfrm>
            <a:prstGeom prst="ellipse">
              <a:avLst/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36" name="Rectangle 48"/>
            <p:cNvSpPr/>
            <p:nvPr/>
          </p:nvSpPr>
          <p:spPr>
            <a:xfrm>
              <a:off x="5606640" y="6571080"/>
              <a:ext cx="117864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5040" tIns="38160" bIns="38160" anchor="ctr">
              <a:spAutoFit/>
            </a:bodyPr>
            <a:p>
              <a:pPr marL="176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x:Professor</a:t>
              </a:r>
              <a:endParaRPr b="0" lang="en-US" sz="16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437" name="Group 49"/>
          <p:cNvGrpSpPr/>
          <p:nvPr/>
        </p:nvGrpSpPr>
        <p:grpSpPr>
          <a:xfrm>
            <a:off x="5219640" y="7327800"/>
            <a:ext cx="1955880" cy="546120"/>
            <a:chOff x="5219640" y="7327800"/>
            <a:chExt cx="1955880" cy="546120"/>
          </a:xfrm>
        </p:grpSpPr>
        <p:sp>
          <p:nvSpPr>
            <p:cNvPr id="438" name="Oval 50"/>
            <p:cNvSpPr/>
            <p:nvPr/>
          </p:nvSpPr>
          <p:spPr>
            <a:xfrm>
              <a:off x="5219640" y="7327800"/>
              <a:ext cx="1955880" cy="546120"/>
            </a:xfrm>
            <a:prstGeom prst="ellipse">
              <a:avLst/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39" name="Rectangle 51"/>
            <p:cNvSpPr/>
            <p:nvPr/>
          </p:nvSpPr>
          <p:spPr>
            <a:xfrm>
              <a:off x="5460480" y="7434720"/>
              <a:ext cx="147132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5040" tIns="38160" bIns="38160" anchor="ctr">
              <a:spAutoFit/>
            </a:bodyPr>
            <a:p>
              <a:pPr marL="176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x:PhD-Student</a:t>
              </a:r>
              <a:endParaRPr b="0" lang="en-US" sz="16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440" name="Group 52"/>
          <p:cNvGrpSpPr/>
          <p:nvPr/>
        </p:nvGrpSpPr>
        <p:grpSpPr>
          <a:xfrm>
            <a:off x="7924680" y="5816520"/>
            <a:ext cx="1955880" cy="546120"/>
            <a:chOff x="7924680" y="5816520"/>
            <a:chExt cx="1955880" cy="546120"/>
          </a:xfrm>
        </p:grpSpPr>
        <p:sp>
          <p:nvSpPr>
            <p:cNvPr id="441" name="Oval 53"/>
            <p:cNvSpPr/>
            <p:nvPr/>
          </p:nvSpPr>
          <p:spPr>
            <a:xfrm>
              <a:off x="7924680" y="5816520"/>
              <a:ext cx="1955880" cy="5461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42" name="Rectangle 54"/>
            <p:cNvSpPr/>
            <p:nvPr/>
          </p:nvSpPr>
          <p:spPr>
            <a:xfrm>
              <a:off x="8506800" y="5923440"/>
              <a:ext cx="79632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5040" tIns="38160" bIns="38160" anchor="ctr">
              <a:spAutoFit/>
            </a:bodyPr>
            <a:p>
              <a:pPr marL="176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x:email</a:t>
              </a:r>
              <a:endParaRPr b="0" lang="en-US" sz="16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443" name="Group 55"/>
          <p:cNvGrpSpPr/>
          <p:nvPr/>
        </p:nvGrpSpPr>
        <p:grpSpPr>
          <a:xfrm>
            <a:off x="8039160" y="8953560"/>
            <a:ext cx="1955880" cy="546120"/>
            <a:chOff x="8039160" y="8953560"/>
            <a:chExt cx="1955880" cy="546120"/>
          </a:xfrm>
        </p:grpSpPr>
        <p:sp>
          <p:nvSpPr>
            <p:cNvPr id="444" name="Oval 56"/>
            <p:cNvSpPr/>
            <p:nvPr/>
          </p:nvSpPr>
          <p:spPr>
            <a:xfrm>
              <a:off x="8039160" y="8953560"/>
              <a:ext cx="1955880" cy="5461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45" name="Rectangle 57"/>
            <p:cNvSpPr/>
            <p:nvPr/>
          </p:nvSpPr>
          <p:spPr>
            <a:xfrm>
              <a:off x="8372160" y="9060480"/>
              <a:ext cx="128232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5040" tIns="38160" bIns="38160" anchor="ctr">
              <a:spAutoFit/>
            </a:bodyPr>
            <a:p>
              <a:pPr marL="176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x:supervises</a:t>
              </a:r>
              <a:endParaRPr b="0" lang="en-US" sz="16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446" name="Group 58"/>
          <p:cNvGrpSpPr/>
          <p:nvPr/>
        </p:nvGrpSpPr>
        <p:grpSpPr>
          <a:xfrm>
            <a:off x="8039160" y="6896160"/>
            <a:ext cx="1955880" cy="546120"/>
            <a:chOff x="8039160" y="6896160"/>
            <a:chExt cx="1955880" cy="546120"/>
          </a:xfrm>
        </p:grpSpPr>
        <p:sp>
          <p:nvSpPr>
            <p:cNvPr id="447" name="Oval 59"/>
            <p:cNvSpPr/>
            <p:nvPr/>
          </p:nvSpPr>
          <p:spPr>
            <a:xfrm>
              <a:off x="8039160" y="6896160"/>
              <a:ext cx="1955880" cy="5461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48" name="Rectangle 60"/>
            <p:cNvSpPr/>
            <p:nvPr/>
          </p:nvSpPr>
          <p:spPr>
            <a:xfrm>
              <a:off x="8513640" y="7003080"/>
              <a:ext cx="100044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5040" tIns="38160" bIns="38160" anchor="ctr">
              <a:spAutoFit/>
            </a:bodyPr>
            <a:p>
              <a:pPr marL="176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x:advises</a:t>
              </a:r>
              <a:endParaRPr b="0" lang="en-US" sz="16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449" name="Group 61"/>
          <p:cNvGrpSpPr/>
          <p:nvPr/>
        </p:nvGrpSpPr>
        <p:grpSpPr>
          <a:xfrm>
            <a:off x="5334120" y="8953560"/>
            <a:ext cx="1955520" cy="546120"/>
            <a:chOff x="5334120" y="8953560"/>
            <a:chExt cx="1955520" cy="546120"/>
          </a:xfrm>
        </p:grpSpPr>
        <p:sp>
          <p:nvSpPr>
            <p:cNvPr id="450" name="Oval 62"/>
            <p:cNvSpPr/>
            <p:nvPr/>
          </p:nvSpPr>
          <p:spPr>
            <a:xfrm>
              <a:off x="5334120" y="8953560"/>
              <a:ext cx="1955520" cy="546120"/>
            </a:xfrm>
            <a:prstGeom prst="ellipse">
              <a:avLst/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51" name="Rectangle 63"/>
            <p:cNvSpPr/>
            <p:nvPr/>
          </p:nvSpPr>
          <p:spPr>
            <a:xfrm>
              <a:off x="5697360" y="9060480"/>
              <a:ext cx="121392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5040" tIns="38160" bIns="38160" anchor="ctr">
              <a:spAutoFit/>
            </a:bodyPr>
            <a:p>
              <a:pPr marL="176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x:Employee</a:t>
              </a:r>
              <a:endParaRPr b="0" lang="en-US" sz="16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452" name="Group 64"/>
          <p:cNvGrpSpPr/>
          <p:nvPr/>
        </p:nvGrpSpPr>
        <p:grpSpPr>
          <a:xfrm>
            <a:off x="10858680" y="8953560"/>
            <a:ext cx="1955520" cy="546120"/>
            <a:chOff x="10858680" y="8953560"/>
            <a:chExt cx="1955520" cy="546120"/>
          </a:xfrm>
        </p:grpSpPr>
        <p:sp>
          <p:nvSpPr>
            <p:cNvPr id="453" name="Oval 65"/>
            <p:cNvSpPr/>
            <p:nvPr/>
          </p:nvSpPr>
          <p:spPr>
            <a:xfrm>
              <a:off x="10858680" y="8953560"/>
              <a:ext cx="1955520" cy="546120"/>
            </a:xfrm>
            <a:prstGeom prst="ellipse">
              <a:avLst/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54" name="Rectangle 66"/>
            <p:cNvSpPr/>
            <p:nvPr/>
          </p:nvSpPr>
          <p:spPr>
            <a:xfrm>
              <a:off x="11224440" y="9060480"/>
              <a:ext cx="121392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5040" tIns="38160" bIns="38160" anchor="ctr">
              <a:spAutoFit/>
            </a:bodyPr>
            <a:p>
              <a:pPr marL="176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x:Employee</a:t>
              </a:r>
              <a:endParaRPr b="0" lang="en-US" sz="16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455" name="Group 67"/>
          <p:cNvGrpSpPr/>
          <p:nvPr/>
        </p:nvGrpSpPr>
        <p:grpSpPr>
          <a:xfrm>
            <a:off x="10858680" y="5816520"/>
            <a:ext cx="1955520" cy="546120"/>
            <a:chOff x="10858680" y="5816520"/>
            <a:chExt cx="1955520" cy="546120"/>
          </a:xfrm>
        </p:grpSpPr>
        <p:sp>
          <p:nvSpPr>
            <p:cNvPr id="456" name="Oval 68"/>
            <p:cNvSpPr/>
            <p:nvPr/>
          </p:nvSpPr>
          <p:spPr>
            <a:xfrm>
              <a:off x="10858680" y="5816520"/>
              <a:ext cx="1955520" cy="546120"/>
            </a:xfrm>
            <a:prstGeom prst="ellipse">
              <a:avLst/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57" name="Rectangle 69"/>
            <p:cNvSpPr/>
            <p:nvPr/>
          </p:nvSpPr>
          <p:spPr>
            <a:xfrm>
              <a:off x="11332440" y="5923440"/>
              <a:ext cx="99756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5040" tIns="38160" bIns="38160" anchor="ctr">
              <a:spAutoFit/>
            </a:bodyPr>
            <a:p>
              <a:pPr marL="176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rdf:Literal</a:t>
              </a:r>
              <a:endParaRPr b="0" lang="en-US" sz="16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458" name="Group 70"/>
          <p:cNvGrpSpPr/>
          <p:nvPr/>
        </p:nvGrpSpPr>
        <p:grpSpPr>
          <a:xfrm>
            <a:off x="10858680" y="6896160"/>
            <a:ext cx="1955520" cy="546120"/>
            <a:chOff x="10858680" y="6896160"/>
            <a:chExt cx="1955520" cy="546120"/>
          </a:xfrm>
        </p:grpSpPr>
        <p:sp>
          <p:nvSpPr>
            <p:cNvPr id="459" name="Oval 71"/>
            <p:cNvSpPr/>
            <p:nvPr/>
          </p:nvSpPr>
          <p:spPr>
            <a:xfrm>
              <a:off x="10858680" y="6896160"/>
              <a:ext cx="1955520" cy="546120"/>
            </a:xfrm>
            <a:prstGeom prst="ellipse">
              <a:avLst/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60" name="Rectangle 72"/>
            <p:cNvSpPr/>
            <p:nvPr/>
          </p:nvSpPr>
          <p:spPr>
            <a:xfrm>
              <a:off x="11326680" y="7003080"/>
              <a:ext cx="100944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5040" tIns="38160" bIns="38160" anchor="ctr">
              <a:spAutoFit/>
            </a:bodyPr>
            <a:p>
              <a:pPr marL="176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x:Student</a:t>
              </a:r>
              <a:endParaRPr b="0" lang="en-US" sz="16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461" name="AutoShape 73"/>
          <p:cNvSpPr/>
          <p:nvPr/>
        </p:nvSpPr>
        <p:spPr>
          <a:xfrm rot="10800000">
            <a:off x="7191000" y="6730560"/>
            <a:ext cx="1133640" cy="220680"/>
          </a:xfrm>
          <a:prstGeom prst="pie">
            <a:avLst/>
          </a:prstGeom>
          <a:blipFill rotWithShape="0">
            <a:blip r:embed="rId9"/>
            <a:srcRect/>
            <a:tile tx="0" ty="0" sx="100000" sy="100000" algn="ctr"/>
          </a:blipFill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2" name="AutoShape 74"/>
          <p:cNvSpPr/>
          <p:nvPr/>
        </p:nvSpPr>
        <p:spPr>
          <a:xfrm flipH="1">
            <a:off x="7190640" y="7378560"/>
            <a:ext cx="1133640" cy="222480"/>
          </a:xfrm>
          <a:prstGeom prst="pie">
            <a:avLst/>
          </a:prstGeom>
          <a:blipFill rotWithShape="0">
            <a:blip r:embed="rId10"/>
            <a:srcRect/>
            <a:tile tx="0" ty="0" sx="100000" sy="100000" algn="ctr"/>
          </a:blipFill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3" name="Line 75"/>
          <p:cNvSpPr/>
          <p:nvPr/>
        </p:nvSpPr>
        <p:spPr>
          <a:xfrm>
            <a:off x="10009080" y="7162920"/>
            <a:ext cx="827280" cy="1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4" name="Line 76"/>
          <p:cNvSpPr/>
          <p:nvPr/>
        </p:nvSpPr>
        <p:spPr>
          <a:xfrm>
            <a:off x="9901080" y="6083280"/>
            <a:ext cx="935280" cy="1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5" name="Line 77"/>
          <p:cNvSpPr/>
          <p:nvPr/>
        </p:nvSpPr>
        <p:spPr>
          <a:xfrm>
            <a:off x="10009080" y="9232920"/>
            <a:ext cx="827280" cy="1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6" name="Line 78"/>
          <p:cNvSpPr/>
          <p:nvPr/>
        </p:nvSpPr>
        <p:spPr>
          <a:xfrm flipH="1">
            <a:off x="7299360" y="9232920"/>
            <a:ext cx="719280" cy="1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7" name="Rectangle 79"/>
          <p:cNvSpPr/>
          <p:nvPr/>
        </p:nvSpPr>
        <p:spPr>
          <a:xfrm>
            <a:off x="7364520" y="6350040"/>
            <a:ext cx="1169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dfs:domain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8" name="Rectangle 80"/>
          <p:cNvSpPr/>
          <p:nvPr/>
        </p:nvSpPr>
        <p:spPr>
          <a:xfrm>
            <a:off x="7364520" y="7543800"/>
            <a:ext cx="1169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dfs:domain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9" name="Rectangle 81"/>
          <p:cNvSpPr/>
          <p:nvPr/>
        </p:nvSpPr>
        <p:spPr>
          <a:xfrm>
            <a:off x="7148520" y="9385200"/>
            <a:ext cx="1169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dfs:domain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0" name="Rectangle 82"/>
          <p:cNvSpPr/>
          <p:nvPr/>
        </p:nvSpPr>
        <p:spPr>
          <a:xfrm>
            <a:off x="9901080" y="6180120"/>
            <a:ext cx="1001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dfs:range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1" name="Rectangle 83"/>
          <p:cNvSpPr/>
          <p:nvPr/>
        </p:nvSpPr>
        <p:spPr>
          <a:xfrm>
            <a:off x="9966240" y="9323280"/>
            <a:ext cx="1001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dfs:range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2" name="Rectangle 84"/>
          <p:cNvSpPr/>
          <p:nvPr/>
        </p:nvSpPr>
        <p:spPr>
          <a:xfrm>
            <a:off x="9920160" y="6707160"/>
            <a:ext cx="1001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dfs:range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473" name="Group 85"/>
          <p:cNvGrpSpPr/>
          <p:nvPr/>
        </p:nvGrpSpPr>
        <p:grpSpPr>
          <a:xfrm>
            <a:off x="8039160" y="7975440"/>
            <a:ext cx="1955880" cy="546120"/>
            <a:chOff x="8039160" y="7975440"/>
            <a:chExt cx="1955880" cy="546120"/>
          </a:xfrm>
        </p:grpSpPr>
        <p:sp>
          <p:nvSpPr>
            <p:cNvPr id="474" name="Oval 86"/>
            <p:cNvSpPr/>
            <p:nvPr/>
          </p:nvSpPr>
          <p:spPr>
            <a:xfrm>
              <a:off x="8039160" y="7975440"/>
              <a:ext cx="1955880" cy="5461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75" name="Rectangle 87"/>
            <p:cNvSpPr/>
            <p:nvPr/>
          </p:nvSpPr>
          <p:spPr>
            <a:xfrm>
              <a:off x="8164800" y="8094960"/>
              <a:ext cx="169848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5040" tIns="38160" bIns="38160" anchor="ctr">
              <a:spAutoFit/>
            </a:bodyPr>
            <a:p>
              <a:pPr marL="176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x:responsible_for</a:t>
              </a:r>
              <a:endParaRPr b="0" lang="en-US" sz="16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476" name="Line 88"/>
          <p:cNvSpPr/>
          <p:nvPr/>
        </p:nvSpPr>
        <p:spPr>
          <a:xfrm>
            <a:off x="9016920" y="7458120"/>
            <a:ext cx="1800" cy="501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7" name="Line 89"/>
          <p:cNvSpPr/>
          <p:nvPr/>
        </p:nvSpPr>
        <p:spPr>
          <a:xfrm flipV="1">
            <a:off x="9016200" y="8542080"/>
            <a:ext cx="1800" cy="392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8" name="Rectangle 90"/>
          <p:cNvSpPr/>
          <p:nvPr/>
        </p:nvSpPr>
        <p:spPr>
          <a:xfrm>
            <a:off x="9191160" y="7543800"/>
            <a:ext cx="1867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dfs:subPropertyOf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9" name="Rectangle 91"/>
          <p:cNvSpPr/>
          <p:nvPr/>
        </p:nvSpPr>
        <p:spPr>
          <a:xfrm>
            <a:off x="9191160" y="8564400"/>
            <a:ext cx="1867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dfs:subPropertyOf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0" name="Rectangle 92"/>
          <p:cNvSpPr/>
          <p:nvPr/>
        </p:nvSpPr>
        <p:spPr>
          <a:xfrm>
            <a:off x="2232720" y="7340760"/>
            <a:ext cx="267984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Relationen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1" name="Rectangle 93"/>
          <p:cNvSpPr/>
          <p:nvPr/>
        </p:nvSpPr>
        <p:spPr>
          <a:xfrm>
            <a:off x="1486080" y="304920"/>
            <a:ext cx="1104876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RDFS - einfache Ontologien</a:t>
            </a: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cover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6123F-92A8-43F9-87F2-2AFEF1616BB5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RDF Schema als Ontologiesprache?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826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geeignet für einfache Ontolog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Vorteil: automatisches Schlussfolgern ist relativ effizient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aber: für komplexere Modellierungen ungeeignet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ückgriff auf mächtigere Sprachen, wie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OWL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F-Logik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7T15:30:16Z</dcterms:created>
  <dc:creator/>
  <dc:description/>
  <cp:keywords/>
  <dc:language>en-US</dc:language>
  <cp:lastModifiedBy>Sebastian Rudolph</cp:lastModifiedBy>
  <dcterms:modified xsi:type="dcterms:W3CDTF">2009-12-10T00:03:23Z</dcterms:modified>
  <cp:revision>9</cp:revision>
  <dc:subject/>
  <dc:title>Grundlagen Semantic Web</dc:title>
</cp:coreProperties>
</file>